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3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6.jpeg" ContentType="image/jpeg"/>
  <Override PartName="/ppt/media/image3.png" ContentType="image/png"/>
  <Override PartName="/ppt/media/image4.png" ContentType="image/png"/>
  <Override PartName="/ppt/media/image27.jpeg" ContentType="image/jpeg"/>
  <Override PartName="/ppt/media/image10.png" ContentType="image/png"/>
  <Override PartName="/ppt/media/image5.png" ContentType="image/png"/>
  <Override PartName="/ppt/media/image29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4.jpeg" ContentType="image/jpeg"/>
  <Override PartName="/ppt/media/image8.png" ContentType="image/png"/>
  <Override PartName="/ppt/media/image9.png" ContentType="image/png"/>
  <Override PartName="/ppt/media/image13.png" ContentType="image/png"/>
  <Override PartName="/ppt/media/image2.png" ContentType="image/png"/>
  <Override PartName="/ppt/media/image25.jpeg" ContentType="image/jpeg"/>
  <Override PartName="/ppt/media/image1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8.jpeg" ContentType="image/jpeg"/>
  <Override PartName="/ppt/media/image19.png" ContentType="image/png"/>
  <Override PartName="/ppt/media/image21.png" ContentType="image/png"/>
  <Override PartName="/ppt/media/image24.jpeg" ContentType="image/jpeg"/>
  <Override PartName="/ppt/media/image22.png" ContentType="image/png"/>
  <Override PartName="/ppt/media/image15.png" ContentType="image/png"/>
  <Override PartName="/ppt/media/apert.wav" ContentType="audio/x-wav"/>
  <Override PartName="/ppt/media/image12.png" ContentType="image/png"/>
  <Override PartName="/ppt/media/image23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812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DA8906B-D892-4CAA-98C6-10E4DFE3D56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6"/>
          <p:cNvSpPr/>
          <p:nvPr/>
        </p:nvSpPr>
        <p:spPr>
          <a:xfrm>
            <a:off x="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  <a:ea typeface="MS PGothic"/>
              </a:rPr>
              <a:t>Paolo Ferragina, Web Algorithmics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27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D18FA03-09A6-412E-9757-D6F31E14F5AD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MS P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7A5BFA6-F8D3-45FD-8503-6BB8A89F784E}" type="slidenum">
              <a:rPr b="0" lang="en-US" sz="13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3" name="Header Placeholder 4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it-IT" sz="1300" spc="-1" strike="noStrike">
                <a:solidFill>
                  <a:srgbClr val="000000"/>
                </a:solidFill>
                <a:latin typeface="Lucida Sans"/>
              </a:rPr>
              <a:t>Prof. Paolo Ferragina, Univ. Pisa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3"/>
          <p:cNvSpPr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3"/>
          <p:cNvSpPr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3"/>
          <p:cNvSpPr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3"/>
          <p:cNvSpPr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Rectangle 3"/>
          <p:cNvSpPr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Rectangle 3"/>
          <p:cNvSpPr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Rectangle 3"/>
          <p:cNvSpPr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709560" y="48589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3"/>
          <p:cNvSpPr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3"/>
          <p:cNvSpPr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3"/>
          <p:cNvSpPr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3"/>
          <p:cNvSpPr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709560" y="48589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09560" y="48589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709560" y="48589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09560" y="48589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709560" y="48589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09560" y="48589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09560" y="48589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Problemi che sono dietro al calcolo della DFS in meomria seconda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709560" y="48589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Descrizione dell’algoritmo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09560" y="48589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709560" y="48589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09560" y="48589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  <a:ea typeface="MS PGothic"/>
            </a:endParaRPr>
          </a:p>
        </p:txBody>
      </p:sp>
      <p:sp>
        <p:nvSpPr>
          <p:cNvPr id="508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2100A00D-53CA-4D0F-87CD-AD58AF8AE469}" type="slidenum">
              <a:rPr b="0" lang="en-US" sz="13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  <a:ea typeface="MS PGothic"/>
            </a:endParaRPr>
          </a:p>
        </p:txBody>
      </p:sp>
      <p:sp>
        <p:nvSpPr>
          <p:cNvPr id="511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7233B1A-CA45-4ED1-BD32-74B45561905C}" type="slidenum">
              <a:rPr b="0" lang="en-US" sz="13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  <a:ea typeface="MS PGothic"/>
            </a:endParaRPr>
          </a:p>
        </p:txBody>
      </p:sp>
      <p:sp>
        <p:nvSpPr>
          <p:cNvPr id="514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C3639705-375B-4C45-A69E-A05893281B87}" type="slidenum">
              <a:rPr b="0" lang="en-US" sz="13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  <a:ea typeface="MS PGothic"/>
            </a:endParaRPr>
          </a:p>
        </p:txBody>
      </p:sp>
      <p:sp>
        <p:nvSpPr>
          <p:cNvPr id="517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7F78097-B400-4C9D-9A92-1EBDECF94514}" type="slidenum">
              <a:rPr b="0" lang="en-US" sz="13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Footer Placeholder 3"/>
          <p:cNvSpPr/>
          <p:nvPr/>
        </p:nvSpPr>
        <p:spPr>
          <a:xfrm>
            <a:off x="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aolo Ferragina, Web Algorithmics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06" name="Slide Number Placeholder 4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97D0D8D-2181-470A-9AC9-11A024D76011}" type="slidenum">
              <a:rPr b="0" lang="en-US" sz="13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  <a:ea typeface="MS PGothic"/>
            </a:endParaRPr>
          </a:p>
        </p:txBody>
      </p:sp>
      <p:sp>
        <p:nvSpPr>
          <p:cNvPr id="520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DE083C1-5EBA-4958-BA74-05450A49FCC7}" type="slidenum">
              <a:rPr b="0" lang="en-US" sz="13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  <a:ea typeface="MS PGothic"/>
            </a:endParaRPr>
          </a:p>
        </p:txBody>
      </p:sp>
      <p:sp>
        <p:nvSpPr>
          <p:cNvPr id="523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24CA4028-09BD-4AE7-9522-D17121445614}" type="slidenum">
              <a:rPr b="0" lang="en-US" sz="13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  <a:ea typeface="MS PGothic"/>
            </a:endParaRPr>
          </a:p>
        </p:txBody>
      </p:sp>
      <p:sp>
        <p:nvSpPr>
          <p:cNvPr id="526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7A788C0-A948-4CBF-A3BF-07A861D860C8}" type="slidenum">
              <a:rPr b="0" lang="en-US" sz="13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  <a:ea typeface="MS PGothic"/>
            </a:endParaRPr>
          </a:p>
        </p:txBody>
      </p:sp>
      <p:sp>
        <p:nvSpPr>
          <p:cNvPr id="529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C317C073-373E-4E1F-B73D-F001FA56F181}" type="slidenum">
              <a:rPr b="0" lang="en-US" sz="13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  <a:ea typeface="MS PGothic"/>
            </a:endParaRPr>
          </a:p>
        </p:txBody>
      </p:sp>
      <p:sp>
        <p:nvSpPr>
          <p:cNvPr id="532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515B1A0A-6260-41E3-A23A-5CAFA9A0C42F}" type="slidenum">
              <a:rPr b="0" lang="en-US" sz="13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  <a:ea typeface="MS PGothic"/>
            </a:endParaRPr>
          </a:p>
        </p:txBody>
      </p:sp>
      <p:sp>
        <p:nvSpPr>
          <p:cNvPr id="535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7EE1128E-59D5-44AA-B22B-49FB1BDEB8B7}" type="slidenum">
              <a:rPr b="0" lang="en-US" sz="13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709560" y="48589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Footer Placeholder 3"/>
          <p:cNvSpPr/>
          <p:nvPr/>
        </p:nvSpPr>
        <p:spPr>
          <a:xfrm>
            <a:off x="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aolo Ferragina, Web Algorithmics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10" name="Slide Number Placeholder 4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F9F599BB-EEDF-4A51-975E-DE74756B1467}" type="slidenum">
              <a:rPr b="0" lang="en-US" sz="13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709560" y="48589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709560" y="48589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La copy list permette di eliminare dei nodi dai successori, se uguali a quelli presenti nella lista dei successori del reference node, i rimanenti vengono detti Extra nod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Qui si comprimono le sequenze binarie mediante R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La lista degli extra nodes viene ulteriormente compressa, identificando sequenze contigue di ID e si creano intervalli che vengono rappresentati come left,len-2; il left vene codificato come indicato all’inizio (perché può essere negativo) quando si tratta del primo intervallo; gli altri sono codificati come differenza dall’ultimo numero -2, perché altrimenti non ci sarebbe un gap tra due intervalli o tra l’intervallo corrente e un elemento preceden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Quelli che rimangono come singleton, vengono detti residuals, il primo vene codificato rispetto alla source (sempre con la formula che permette di codifiare i negativi), gli altri come differenza rispetto al precedente residual - 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Footer Placeholder 3"/>
          <p:cNvSpPr/>
          <p:nvPr/>
        </p:nvSpPr>
        <p:spPr>
          <a:xfrm>
            <a:off x="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aolo Ferragina, Web Algorithmics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14" name="Slide Number Placeholder 4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250FDD40-F9D5-49F5-A856-97AB6C555309}" type="slidenum">
              <a:rPr b="0" lang="en-US" sz="13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5240" cy="383724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709560" y="48589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78215EA5-C1F1-41CD-A815-71E48A28CBF3}" type="slidenum">
              <a:rPr b="0" lang="en-US" sz="13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21" name="Header Placeholder 4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it-IT" sz="1300" spc="-1" strike="noStrike">
                <a:solidFill>
                  <a:srgbClr val="000000"/>
                </a:solidFill>
                <a:latin typeface="Lucida Sans"/>
              </a:rPr>
              <a:t>Prof. Paolo Ferragina, Univ. Pisa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6146448B-1805-4B6E-806D-586106D007DF}" type="slidenum">
              <a:rPr b="0" lang="en-US" sz="13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25" name="Header Placeholder 4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it-IT" sz="1300" spc="-1" strike="noStrike">
                <a:solidFill>
                  <a:srgbClr val="000000"/>
                </a:solidFill>
                <a:latin typeface="Lucida Sans"/>
              </a:rPr>
              <a:t>Prof. Paolo Ferragina, Univ. Pisa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D601E-086B-427C-B12B-A65F5978D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02C67-4A01-4A3E-9BFA-C7C9CEB1C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3CF88-D7A8-452E-85A5-3C0B39C5F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9EDF7-78C4-456A-9273-930E2C32A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395D0-46AB-4D76-95BC-66BCFBBCB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56CB4-AD77-4397-86A6-DBE0A9E3A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414EE-452E-4775-BE85-C97A32C1A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EC4FB-5F8A-4665-B129-855F9ABBF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671F5-1D44-4440-8E36-2413162FC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33520" y="380880"/>
            <a:ext cx="80769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1DBE9-5B01-44A1-8CB0-167AD8FF1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A6A90-F88A-4A7A-8E21-ECE19DE7F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F16F8-0405-40B4-84EE-945893DCD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BF232-9836-4A2F-AADC-2BCC91308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697EB-E71C-42DF-9374-FE429EE89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6CAA7-CD0E-455E-A487-7953CA833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5D9C8-F999-47E6-A512-A5130635F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0A225-A35C-4D05-88F0-BC6A4A03C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FB24C-A2A5-450A-9C90-651FBCFCA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D2E17-CB66-4135-B8EC-4A258BA19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46258-E7F2-4B31-A4C5-D2DF9359C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33520" y="380880"/>
            <a:ext cx="80769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7CAFA-3706-4586-B036-583E14035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6BED2-9052-42A9-8F4B-6FD41566E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6FCC0-5F0F-428D-9C92-34180939B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E231A-C33C-45A7-B9E9-A5270A2F3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4" marL="20574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74145-3FA6-4D08-A188-D0F28CD3EF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9"/>
          <p:cNvSpPr/>
          <p:nvPr/>
        </p:nvSpPr>
        <p:spPr>
          <a:xfrm>
            <a:off x="533520" y="1371600"/>
            <a:ext cx="8080200" cy="155520"/>
          </a:xfrm>
          <a:prstGeom prst="rect">
            <a:avLst/>
          </a:prstGeom>
          <a:gradFill rotWithShape="0">
            <a:gsLst>
              <a:gs pos="0">
                <a:srgbClr val="a50021"/>
              </a:gs>
              <a:gs pos="100000">
                <a:srgbClr val="0000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4" marL="20574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C58D8-3270-44A1-93BB-EC2C52016DC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audio" Target="../media/apert.wav"/><Relationship Id="rId5" Type="http://schemas.openxmlformats.org/officeDocument/2006/relationships/audio" Target="../media/apert.wav"/><Relationship Id="rId6" Type="http://schemas.openxmlformats.org/officeDocument/2006/relationships/audio" Target="../media/apert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Web search engines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Lucida Sans"/>
              </a:rPr>
              <a:t>Paolo Ferragina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Dipartimento di Informatica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Università di Pisa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tomtom_go_910_rev"/>
          <p:cNvPicPr/>
          <p:nvPr/>
        </p:nvPicPr>
        <p:blipFill>
          <a:blip r:embed="rId1"/>
          <a:stretch/>
        </p:blipFill>
        <p:spPr>
          <a:xfrm>
            <a:off x="2050920" y="2060640"/>
            <a:ext cx="5042160" cy="378288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24000" y="476280"/>
            <a:ext cx="807552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Comic Sans MS"/>
              </a:rPr>
              <a:t>This is a search engine!!!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4" name="CasellaDiTesto 1"/>
          <p:cNvSpPr/>
          <p:nvPr/>
        </p:nvSpPr>
        <p:spPr>
          <a:xfrm>
            <a:off x="8847000" y="3232080"/>
            <a:ext cx="18576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685800" y="1752120"/>
            <a:ext cx="7772400" cy="48769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2" descr="http://1.bp.blogspot.com/-nUZ33kaVKL0/UkVlFzbTiqI/AAAAAAAAOA4/gjiWEedxeD8/s1600/Screen+Shot+2013-09-26+at+11.40.10+AM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38" name="Group 8"/>
          <p:cNvGrpSpPr/>
          <p:nvPr/>
        </p:nvGrpSpPr>
        <p:grpSpPr>
          <a:xfrm>
            <a:off x="0" y="476280"/>
            <a:ext cx="2987640" cy="6381720"/>
            <a:chOff x="0" y="476280"/>
            <a:chExt cx="2987640" cy="6381720"/>
          </a:xfrm>
        </p:grpSpPr>
        <p:sp>
          <p:nvSpPr>
            <p:cNvPr id="139" name="Rounded Rectangle 5"/>
            <p:cNvSpPr/>
            <p:nvPr/>
          </p:nvSpPr>
          <p:spPr>
            <a:xfrm>
              <a:off x="0" y="836640"/>
              <a:ext cx="2987640" cy="6021360"/>
            </a:xfrm>
            <a:custGeom>
              <a:avLst/>
              <a:gdLst>
                <a:gd name="textAreaLeft" fmla="*/ 145800 w 2987640"/>
                <a:gd name="textAreaRight" fmla="*/ 2841840 w 2987640"/>
                <a:gd name="textAreaTop" fmla="*/ 145800 h 6021360"/>
                <a:gd name="textAreaBottom" fmla="*/ 5875560 h 6021360"/>
              </a:gdLst>
              <a:ahLst/>
              <a:rect l="textAreaLeft" t="textAreaTop" r="textAreaRight" b="textAreaBottom"/>
              <a:pathLst>
                <a:path w="21600" h="43531">
                  <a:moveTo>
                    <a:pt x="3600" y="0"/>
                  </a:moveTo>
                  <a:arcTo wR="3600" hR="3600" stAng="16200000" swAng="-5400000"/>
                  <a:lnTo>
                    <a:pt x="0" y="39931"/>
                  </a:lnTo>
                  <a:arcTo wR="3600" hR="3600" stAng="10800000" swAng="-5400000"/>
                  <a:lnTo>
                    <a:pt x="18000" y="4353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76320">
              <a:solidFill>
                <a:srgbClr val="7575d1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0" name="TextBox 7"/>
            <p:cNvSpPr/>
            <p:nvPr/>
          </p:nvSpPr>
          <p:spPr>
            <a:xfrm>
              <a:off x="885960" y="476280"/>
              <a:ext cx="1602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262673"/>
                  </a:solidFill>
                  <a:latin typeface="Lucida Sans"/>
                </a:rPr>
                <a:t>II° generation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141" name="Group 10"/>
          <p:cNvGrpSpPr/>
          <p:nvPr/>
        </p:nvGrpSpPr>
        <p:grpSpPr>
          <a:xfrm>
            <a:off x="3132000" y="260280"/>
            <a:ext cx="3816360" cy="5977080"/>
            <a:chOff x="3132000" y="260280"/>
            <a:chExt cx="3816360" cy="5977080"/>
          </a:xfrm>
        </p:grpSpPr>
        <p:sp>
          <p:nvSpPr>
            <p:cNvPr id="142" name="Rounded Rectangle 6"/>
            <p:cNvSpPr/>
            <p:nvPr/>
          </p:nvSpPr>
          <p:spPr>
            <a:xfrm>
              <a:off x="3132000" y="620280"/>
              <a:ext cx="3816360" cy="5617080"/>
            </a:xfrm>
            <a:custGeom>
              <a:avLst/>
              <a:gdLst>
                <a:gd name="textAreaLeft" fmla="*/ 186120 w 3816360"/>
                <a:gd name="textAreaRight" fmla="*/ 3630240 w 3816360"/>
                <a:gd name="textAreaTop" fmla="*/ 186120 h 5617080"/>
                <a:gd name="textAreaBottom" fmla="*/ 5430960 h 5617080"/>
              </a:gdLst>
              <a:ahLst/>
              <a:rect l="textAreaLeft" t="textAreaTop" r="textAreaRight" b="textAreaBottom"/>
              <a:pathLst>
                <a:path w="21600" h="31791">
                  <a:moveTo>
                    <a:pt x="3600" y="0"/>
                  </a:moveTo>
                  <a:arcTo wR="3600" hR="3600" stAng="16200000" swAng="-5400000"/>
                  <a:lnTo>
                    <a:pt x="0" y="28191"/>
                  </a:lnTo>
                  <a:arcTo wR="3600" hR="3600" stAng="10800000" swAng="-5400000"/>
                  <a:lnTo>
                    <a:pt x="18000" y="317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76320">
              <a:solidFill>
                <a:srgbClr val="00b05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3" name="TextBox 9"/>
            <p:cNvSpPr/>
            <p:nvPr/>
          </p:nvSpPr>
          <p:spPr>
            <a:xfrm>
              <a:off x="4408560" y="260280"/>
              <a:ext cx="1681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ab7e"/>
                  </a:solidFill>
                  <a:latin typeface="Lucida Sans"/>
                </a:rPr>
                <a:t>III° generation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144" name="Group 12"/>
          <p:cNvGrpSpPr/>
          <p:nvPr/>
        </p:nvGrpSpPr>
        <p:grpSpPr>
          <a:xfrm>
            <a:off x="7164360" y="476280"/>
            <a:ext cx="1800360" cy="4824360"/>
            <a:chOff x="7164360" y="476280"/>
            <a:chExt cx="1800360" cy="4824360"/>
          </a:xfrm>
        </p:grpSpPr>
        <p:sp>
          <p:nvSpPr>
            <p:cNvPr id="145" name="Rounded Rectangle 4"/>
            <p:cNvSpPr/>
            <p:nvPr/>
          </p:nvSpPr>
          <p:spPr>
            <a:xfrm>
              <a:off x="7164360" y="836280"/>
              <a:ext cx="1800360" cy="4464360"/>
            </a:xfrm>
            <a:custGeom>
              <a:avLst/>
              <a:gdLst>
                <a:gd name="textAreaLeft" fmla="*/ 87840 w 1800360"/>
                <a:gd name="textAreaRight" fmla="*/ 1712520 w 1800360"/>
                <a:gd name="textAreaTop" fmla="*/ 87840 h 4464360"/>
                <a:gd name="textAreaBottom" fmla="*/ 4376520 h 4464360"/>
              </a:gdLst>
              <a:ahLst/>
              <a:rect l="textAreaLeft" t="textAreaTop" r="textAreaRight" b="textAreaBottom"/>
              <a:pathLst>
                <a:path w="21600" h="53555">
                  <a:moveTo>
                    <a:pt x="3600" y="0"/>
                  </a:moveTo>
                  <a:arcTo wR="3600" hR="3600" stAng="16200000" swAng="-5400000"/>
                  <a:lnTo>
                    <a:pt x="0" y="49955"/>
                  </a:lnTo>
                  <a:arcTo wR="3600" hR="3600" stAng="10800000" swAng="-5400000"/>
                  <a:lnTo>
                    <a:pt x="18000" y="5355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76320">
              <a:solidFill>
                <a:srgbClr val="a40508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6" name="TextBox 11"/>
            <p:cNvSpPr/>
            <p:nvPr/>
          </p:nvSpPr>
          <p:spPr>
            <a:xfrm>
              <a:off x="7230960" y="476280"/>
              <a:ext cx="165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cc3300"/>
                  </a:solidFill>
                  <a:latin typeface="Lucida Sans"/>
                  <a:ea typeface="Arial"/>
                </a:rPr>
                <a:t>IV° generation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Quality of a search engine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Lucida Sans"/>
              </a:rPr>
              <a:t>Paolo Ferragina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Dipartimento di Informatica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Università di Pisa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9" name="Rounded Rectangle 4"/>
          <p:cNvSpPr/>
          <p:nvPr/>
        </p:nvSpPr>
        <p:spPr>
          <a:xfrm>
            <a:off x="6516720" y="6308640"/>
            <a:ext cx="2627280" cy="54936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entury Gothic"/>
                <a:ea typeface="Arial"/>
              </a:rPr>
              <a:t>Reading 8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Is it good ?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How fast does it index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Number of documents/hour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(Average document size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How fast does it search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Latency as a function of index siz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Expressiveness of the query language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Measures for a search engine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All of the preceding criteria are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measurable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he key measure: </a:t>
            </a:r>
            <a:r>
              <a:rPr b="0" lang="en-US" sz="2600" spc="-1" strike="noStrike">
                <a:solidFill>
                  <a:srgbClr val="ff0000"/>
                </a:solidFill>
                <a:latin typeface="Comic Sans MS"/>
              </a:rPr>
              <a:t>user happines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useless answers won’t make a user happy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Happiness: elusive to measure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-49536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Commonest approach is given by the </a:t>
            </a:r>
            <a:r>
              <a:rPr b="0" i="1" lang="en-US" sz="2600" spc="-1" strike="noStrike">
                <a:solidFill>
                  <a:srgbClr val="3333cc"/>
                </a:solidFill>
                <a:latin typeface="Lucida Sans"/>
              </a:rPr>
              <a:t>relevance</a:t>
            </a:r>
            <a:r>
              <a:rPr b="0" lang="en-US" sz="2600" spc="-1" strike="noStrike">
                <a:solidFill>
                  <a:srgbClr val="3333cc"/>
                </a:solidFill>
                <a:latin typeface="Lucida Sans"/>
              </a:rPr>
              <a:t> of search result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How do we measure it ?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953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495360" indent="-49536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Requires 3 elements: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SzPct val="55000"/>
              <a:buFont typeface="Lucida San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A benchmark document collection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SzPct val="55000"/>
              <a:buFont typeface="Lucida San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A benchmark suite of querie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SzPct val="55000"/>
              <a:buFont typeface="Lucida San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A binary assessment of either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Sans"/>
              </a:rPr>
              <a:t>Relevant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or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Sans"/>
              </a:rPr>
              <a:t>Irrelevant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for each query-doc pair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Evaluating an IR system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Lucida Sans"/>
              </a:rPr>
              <a:t>Standard benchmarks</a:t>
            </a:r>
            <a:endParaRPr b="0" lang="en-US" sz="3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TREC: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National Institute of Standards and Testing (NIST) has run large IR testbed for many year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Other doc collections: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marked by human experts, for each query and for each doc,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Sans"/>
              </a:rPr>
              <a:t>Relevant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or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Sans"/>
              </a:rPr>
              <a:t>Irrelevant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8" name="Rectangle 4"/>
          <p:cNvSpPr/>
          <p:nvPr/>
        </p:nvSpPr>
        <p:spPr>
          <a:xfrm>
            <a:off x="539640" y="5734080"/>
            <a:ext cx="820908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SzPct val="12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Lucida Sans"/>
                <a:ea typeface="Arial"/>
              </a:rPr>
              <a:t>On the Web everything is more complicated since we cannot mark the </a:t>
            </a:r>
            <a:r>
              <a:rPr b="0" i="1" lang="en-US" sz="2200" spc="-1" strike="noStrike">
                <a:solidFill>
                  <a:srgbClr val="3333cc"/>
                </a:solidFill>
                <a:latin typeface="Lucida Sans"/>
                <a:ea typeface="Arial"/>
              </a:rPr>
              <a:t>entire corpus </a:t>
            </a:r>
            <a:r>
              <a:rPr b="0" lang="en-US" sz="2200" spc="-1" strike="noStrike">
                <a:solidFill>
                  <a:srgbClr val="3333cc"/>
                </a:solidFill>
                <a:latin typeface="Lucida Sans"/>
                <a:ea typeface="Arial"/>
              </a:rPr>
              <a:t>!!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General scenario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160" name="Group 3"/>
          <p:cNvGrpSpPr/>
          <p:nvPr/>
        </p:nvGrpSpPr>
        <p:grpSpPr>
          <a:xfrm>
            <a:off x="1476360" y="1700280"/>
            <a:ext cx="6858000" cy="3917160"/>
            <a:chOff x="1476360" y="1700280"/>
            <a:chExt cx="6858000" cy="3917160"/>
          </a:xfrm>
        </p:grpSpPr>
        <p:sp>
          <p:nvSpPr>
            <p:cNvPr id="161" name="Oval 4"/>
            <p:cNvSpPr/>
            <p:nvPr/>
          </p:nvSpPr>
          <p:spPr>
            <a:xfrm>
              <a:off x="2771640" y="1928880"/>
              <a:ext cx="5175360" cy="182880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62" name="Oval 5"/>
            <p:cNvSpPr/>
            <p:nvPr/>
          </p:nvSpPr>
          <p:spPr>
            <a:xfrm rot="19926600">
              <a:off x="2009520" y="2843280"/>
              <a:ext cx="4495680" cy="1828800"/>
            </a:xfrm>
            <a:prstGeom prst="ellipse">
              <a:avLst/>
            </a:prstGeom>
            <a:noFill/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63" name="Text Box 6"/>
            <p:cNvSpPr/>
            <p:nvPr/>
          </p:nvSpPr>
          <p:spPr>
            <a:xfrm>
              <a:off x="2772000" y="4443480"/>
              <a:ext cx="1186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Arial"/>
                  <a:ea typeface="Arial"/>
                </a:rPr>
                <a:t>Relevant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64" name="Text Box 7"/>
            <p:cNvSpPr/>
            <p:nvPr/>
          </p:nvSpPr>
          <p:spPr>
            <a:xfrm>
              <a:off x="6200640" y="2386080"/>
              <a:ext cx="1584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Arial"/>
                  <a:ea typeface="Arial"/>
                </a:rPr>
                <a:t>Retrieved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65" name="Rectangle 8"/>
            <p:cNvSpPr/>
            <p:nvPr/>
          </p:nvSpPr>
          <p:spPr>
            <a:xfrm>
              <a:off x="1476360" y="1700280"/>
              <a:ext cx="6858000" cy="38098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66" name="Text Box 9"/>
            <p:cNvSpPr/>
            <p:nvPr/>
          </p:nvSpPr>
          <p:spPr>
            <a:xfrm>
              <a:off x="1652040" y="1776240"/>
              <a:ext cx="1183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collection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323640" y="1557000"/>
            <a:ext cx="856908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40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c00000"/>
                </a:solidFill>
                <a:uFillTx/>
                <a:latin typeface="Lucida Sans"/>
              </a:rPr>
              <a:t>Precision</a:t>
            </a: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: % docs retrieved that are relevant  </a:t>
            </a:r>
            <a:r>
              <a:rPr b="0" lang="en-US" sz="1600" spc="-1" strike="noStrike">
                <a:solidFill>
                  <a:srgbClr val="000000"/>
                </a:solidFill>
                <a:latin typeface="Lucida Sans"/>
              </a:rPr>
              <a:t>[issue “junk” found]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Lucida Sans"/>
              </a:rPr>
              <a:t>Precision vs. Recall</a:t>
            </a:r>
            <a:endParaRPr b="0" lang="en-US" sz="3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9" name="Oval 4"/>
          <p:cNvSpPr/>
          <p:nvPr/>
        </p:nvSpPr>
        <p:spPr>
          <a:xfrm>
            <a:off x="2482920" y="2720880"/>
            <a:ext cx="5175360" cy="18288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0" name="Oval 5"/>
          <p:cNvSpPr/>
          <p:nvPr/>
        </p:nvSpPr>
        <p:spPr>
          <a:xfrm rot="19926600">
            <a:off x="1720440" y="3635280"/>
            <a:ext cx="4495680" cy="1828800"/>
          </a:xfrm>
          <a:prstGeom prst="ellipse">
            <a:avLst/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1" name="Text Box 6"/>
          <p:cNvSpPr/>
          <p:nvPr/>
        </p:nvSpPr>
        <p:spPr>
          <a:xfrm>
            <a:off x="2483280" y="5235480"/>
            <a:ext cx="118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Arial"/>
              </a:rPr>
              <a:t>Relevant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2" name="Text Box 7"/>
          <p:cNvSpPr/>
          <p:nvPr/>
        </p:nvSpPr>
        <p:spPr>
          <a:xfrm>
            <a:off x="5911920" y="3178080"/>
            <a:ext cx="15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  <a:ea typeface="Arial"/>
              </a:rPr>
              <a:t>Retrieved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3" name="Rectangle 8"/>
          <p:cNvSpPr/>
          <p:nvPr/>
        </p:nvSpPr>
        <p:spPr>
          <a:xfrm>
            <a:off x="1187280" y="2637000"/>
            <a:ext cx="6858000" cy="3809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4" name="Text Box 9"/>
          <p:cNvSpPr/>
          <p:nvPr/>
        </p:nvSpPr>
        <p:spPr>
          <a:xfrm>
            <a:off x="1362960" y="2568600"/>
            <a:ext cx="118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collection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5" name="Line 10"/>
          <p:cNvSpPr/>
          <p:nvPr/>
        </p:nvSpPr>
        <p:spPr>
          <a:xfrm>
            <a:off x="4643280" y="3284640"/>
            <a:ext cx="144720" cy="1296720"/>
          </a:xfrm>
          <a:prstGeom prst="line">
            <a:avLst/>
          </a:prstGeom>
          <a:ln w="763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6" name="Line 11"/>
          <p:cNvSpPr/>
          <p:nvPr/>
        </p:nvSpPr>
        <p:spPr>
          <a:xfrm>
            <a:off x="4859280" y="3284640"/>
            <a:ext cx="144360" cy="1296720"/>
          </a:xfrm>
          <a:prstGeom prst="line">
            <a:avLst/>
          </a:prstGeom>
          <a:ln w="763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7" name="Line 12"/>
          <p:cNvSpPr/>
          <p:nvPr/>
        </p:nvSpPr>
        <p:spPr>
          <a:xfrm>
            <a:off x="5076720" y="3284640"/>
            <a:ext cx="144720" cy="1296720"/>
          </a:xfrm>
          <a:prstGeom prst="line">
            <a:avLst/>
          </a:prstGeom>
          <a:ln w="763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8" name="Line 13"/>
          <p:cNvSpPr/>
          <p:nvPr/>
        </p:nvSpPr>
        <p:spPr>
          <a:xfrm>
            <a:off x="5292720" y="3213000"/>
            <a:ext cx="144360" cy="1297080"/>
          </a:xfrm>
          <a:prstGeom prst="line">
            <a:avLst/>
          </a:prstGeom>
          <a:ln w="763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9" name="Line 14"/>
          <p:cNvSpPr/>
          <p:nvPr/>
        </p:nvSpPr>
        <p:spPr>
          <a:xfrm>
            <a:off x="5508720" y="3213000"/>
            <a:ext cx="142920" cy="1152720"/>
          </a:xfrm>
          <a:prstGeom prst="line">
            <a:avLst/>
          </a:prstGeom>
          <a:ln w="763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0" name="Line 15"/>
          <p:cNvSpPr/>
          <p:nvPr/>
        </p:nvSpPr>
        <p:spPr>
          <a:xfrm>
            <a:off x="5724360" y="3284640"/>
            <a:ext cx="71640" cy="865080"/>
          </a:xfrm>
          <a:prstGeom prst="line">
            <a:avLst/>
          </a:prstGeom>
          <a:ln w="763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1" name="Line 16"/>
          <p:cNvSpPr/>
          <p:nvPr/>
        </p:nvSpPr>
        <p:spPr>
          <a:xfrm>
            <a:off x="4356000" y="3429000"/>
            <a:ext cx="144720" cy="1079640"/>
          </a:xfrm>
          <a:prstGeom prst="line">
            <a:avLst/>
          </a:prstGeom>
          <a:ln w="763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2" name="Line 17"/>
          <p:cNvSpPr/>
          <p:nvPr/>
        </p:nvSpPr>
        <p:spPr>
          <a:xfrm>
            <a:off x="4067280" y="3500280"/>
            <a:ext cx="144360" cy="1008360"/>
          </a:xfrm>
          <a:prstGeom prst="line">
            <a:avLst/>
          </a:prstGeom>
          <a:ln w="763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3" name="Line 18"/>
          <p:cNvSpPr/>
          <p:nvPr/>
        </p:nvSpPr>
        <p:spPr>
          <a:xfrm>
            <a:off x="3780000" y="3645000"/>
            <a:ext cx="71280" cy="720720"/>
          </a:xfrm>
          <a:prstGeom prst="line">
            <a:avLst/>
          </a:prstGeom>
          <a:ln w="763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4" name="Line 19"/>
          <p:cNvSpPr/>
          <p:nvPr/>
        </p:nvSpPr>
        <p:spPr>
          <a:xfrm>
            <a:off x="3419640" y="3789360"/>
            <a:ext cx="72720" cy="503280"/>
          </a:xfrm>
          <a:prstGeom prst="line">
            <a:avLst/>
          </a:prstGeom>
          <a:ln w="763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5" name="Line 20"/>
          <p:cNvSpPr/>
          <p:nvPr/>
        </p:nvSpPr>
        <p:spPr>
          <a:xfrm>
            <a:off x="3635280" y="3716280"/>
            <a:ext cx="0" cy="649440"/>
          </a:xfrm>
          <a:prstGeom prst="line">
            <a:avLst/>
          </a:prstGeom>
          <a:ln w="763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6" name="Line 21"/>
          <p:cNvSpPr/>
          <p:nvPr/>
        </p:nvSpPr>
        <p:spPr>
          <a:xfrm>
            <a:off x="3132000" y="3933720"/>
            <a:ext cx="71640" cy="287280"/>
          </a:xfrm>
          <a:prstGeom prst="line">
            <a:avLst/>
          </a:prstGeom>
          <a:ln w="763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7" name="Rectangle 22"/>
          <p:cNvSpPr/>
          <p:nvPr/>
        </p:nvSpPr>
        <p:spPr>
          <a:xfrm>
            <a:off x="324000" y="1916280"/>
            <a:ext cx="85690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0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c00000"/>
                </a:solidFill>
                <a:uFillTx/>
                <a:latin typeface="Lucida Sans"/>
                <a:ea typeface="Arial"/>
              </a:rPr>
              <a:t>Recall</a:t>
            </a:r>
            <a:r>
              <a:rPr b="0" lang="en-US" sz="2200" spc="-1" strike="noStrike">
                <a:solidFill>
                  <a:srgbClr val="000000"/>
                </a:solidFill>
                <a:latin typeface="Lucida Sans"/>
                <a:ea typeface="Arial"/>
              </a:rPr>
              <a:t>: % docs relevant that are retrieved </a:t>
            </a:r>
            <a:r>
              <a:rPr b="0" lang="en-US" sz="1600" spc="-1" strike="noStrike">
                <a:solidFill>
                  <a:srgbClr val="000000"/>
                </a:solidFill>
                <a:latin typeface="Lucida Sans"/>
                <a:ea typeface="Arial"/>
              </a:rPr>
              <a:t>[issue “info” found]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How to compute them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95280" y="1752120"/>
            <a:ext cx="8569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Lucida Sans"/>
              </a:rPr>
              <a:t>Precision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fraction of retrieved docs that are relevant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55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Lucida Sans"/>
              </a:rPr>
              <a:t>Recall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fraction of relevant docs that are retrieved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 algn="ctr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Precision P = tp/(tp + fp)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 algn="ctr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Recall  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  R = tp/(tp + fn)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1476360" y="2924280"/>
          <a:ext cx="6172200" cy="153648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</a:tblGrid>
              <a:tr h="57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3333cc"/>
                          </a:solidFill>
                          <a:latin typeface="Lucida Sans"/>
                        </a:rPr>
                        <a:t>Relevan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3333cc"/>
                          </a:solidFill>
                          <a:latin typeface="Lucida Sans"/>
                        </a:rPr>
                        <a:t>Not Relevan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3333cc"/>
                          </a:solidFill>
                          <a:latin typeface="Lucida Sans"/>
                        </a:rPr>
                        <a:t>Retriev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tp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(true positiv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fp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(false positiv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3333cc"/>
                          </a:solidFill>
                          <a:latin typeface="Lucida Sans"/>
                        </a:rPr>
                        <a:t>Not Retriev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fn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(false negativ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tn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(true negativ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Two main difficulties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8360" y="1599840"/>
            <a:ext cx="81360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The Web: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20720" indent="-277200">
              <a:lnSpc>
                <a:spcPct val="130000"/>
              </a:lnSpc>
              <a:spcBef>
                <a:spcPts val="524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336600"/>
                </a:solidFill>
                <a:latin typeface="Tahoma"/>
              </a:rPr>
              <a:t>Size: </a:t>
            </a:r>
            <a:r>
              <a:rPr b="0" lang="it-IT" sz="2100" spc="-1" strike="noStrike">
                <a:solidFill>
                  <a:srgbClr val="000000"/>
                </a:solidFill>
                <a:latin typeface="Tahoma"/>
              </a:rPr>
              <a:t>more than tens of billions of pages</a:t>
            </a:r>
            <a:endParaRPr b="0" lang="en-US" sz="2100" spc="-1" strike="noStrike">
              <a:solidFill>
                <a:srgbClr val="000000"/>
              </a:solidFill>
              <a:latin typeface="Lucida Sans"/>
            </a:endParaRPr>
          </a:p>
          <a:p>
            <a:pPr lvl="1" marL="720720" indent="-277200">
              <a:lnSpc>
                <a:spcPct val="130000"/>
              </a:lnSpc>
              <a:spcBef>
                <a:spcPts val="524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00"/>
                </a:solidFill>
                <a:latin typeface="Tahoma"/>
              </a:rPr>
              <a:t>Language and encodings:</a:t>
            </a:r>
            <a:r>
              <a:rPr b="0" lang="en-US" sz="2100" spc="-1" strike="noStrike">
                <a:solidFill>
                  <a:srgbClr val="00a000"/>
                </a:solidFill>
                <a:latin typeface="Tahoma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hundreds…</a:t>
            </a:r>
            <a:endParaRPr b="0" lang="en-US" sz="2100" spc="-1" strike="noStrike">
              <a:solidFill>
                <a:srgbClr val="000000"/>
              </a:solidFill>
              <a:latin typeface="Lucida Sans"/>
            </a:endParaRPr>
          </a:p>
          <a:p>
            <a:pPr lvl="1" marL="720720" indent="-277200">
              <a:lnSpc>
                <a:spcPct val="130000"/>
              </a:lnSpc>
              <a:spcBef>
                <a:spcPts val="524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00"/>
                </a:solidFill>
                <a:latin typeface="Tahoma"/>
              </a:rPr>
              <a:t>Distributed authorship:</a:t>
            </a: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 SPAM, format-less,…</a:t>
            </a:r>
            <a:endParaRPr b="0" lang="en-US" sz="2100" spc="-1" strike="noStrike">
              <a:solidFill>
                <a:srgbClr val="000000"/>
              </a:solidFill>
              <a:latin typeface="Lucida Sans"/>
            </a:endParaRPr>
          </a:p>
          <a:p>
            <a:pPr lvl="1" marL="720720" indent="-277200">
              <a:lnSpc>
                <a:spcPct val="130000"/>
              </a:lnSpc>
              <a:spcBef>
                <a:spcPts val="524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00"/>
                </a:solidFill>
                <a:latin typeface="Tahoma"/>
              </a:rPr>
              <a:t>Dynamic:</a:t>
            </a: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 in one year 35% survive, 20% untouched</a:t>
            </a:r>
            <a:endParaRPr b="0" lang="en-US" sz="2100" spc="-1" strike="noStrike">
              <a:solidFill>
                <a:srgbClr val="000000"/>
              </a:solidFill>
              <a:latin typeface="Lucida Sans"/>
            </a:endParaRPr>
          </a:p>
          <a:p>
            <a:pPr marL="33264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3264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The User: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20720" indent="-27720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6600"/>
                </a:solidFill>
                <a:latin typeface="Tahoma"/>
              </a:rPr>
              <a:t>Query composition: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rt (2.5 terms avg) and imprecise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20720" indent="-27720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c00"/>
                </a:solidFill>
                <a:latin typeface="Tahoma"/>
              </a:rPr>
              <a:t>Query results: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85% users look at just one result-page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20720" indent="-27720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00"/>
                </a:solidFill>
                <a:latin typeface="Tahoma"/>
              </a:rPr>
              <a:t>Several needs: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nformational, Navigational, Transactional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4" name="AutoShape 4"/>
          <p:cNvSpPr/>
          <p:nvPr/>
        </p:nvSpPr>
        <p:spPr>
          <a:xfrm>
            <a:off x="3348000" y="1637640"/>
            <a:ext cx="5502240" cy="4683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Lucida Sans"/>
                <a:ea typeface="Arial"/>
              </a:rPr>
              <a:t>Extracting “significant data” is difficult !!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5" name="AutoShape 5"/>
          <p:cNvSpPr/>
          <p:nvPr/>
        </p:nvSpPr>
        <p:spPr>
          <a:xfrm>
            <a:off x="3276720" y="4466520"/>
            <a:ext cx="5502240" cy="4683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Lucida Sans"/>
                <a:ea typeface="Arial"/>
              </a:rPr>
              <a:t>Matching “user needs” is difficult !!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Some consideration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8001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Can get high recall (but low precision) by retrieving all docs for all queries!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Recall is a non-decreasing function of the number of docs retrieved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Precision usually decreases 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2"/>
          <p:cNvSpPr/>
          <p:nvPr/>
        </p:nvSpPr>
        <p:spPr>
          <a:xfrm>
            <a:off x="1547640" y="2924280"/>
            <a:ext cx="6019920" cy="350496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Precision-Recall curve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We measures Precision at various levels of Recall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Note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: it is an AVERAGE over many querie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cxnSp>
        <p:nvCxnSpPr>
          <p:cNvPr id="196" name="AutoShape 5"/>
          <p:cNvCxnSpPr/>
          <p:nvPr/>
        </p:nvCxnSpPr>
        <p:spPr>
          <a:xfrm>
            <a:off x="3520800" y="3224160"/>
            <a:ext cx="1080" cy="2286720"/>
          </a:xfrm>
          <a:prstGeom prst="straightConnector1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7" name="AutoShape 6"/>
          <p:cNvCxnSpPr/>
          <p:nvPr/>
        </p:nvCxnSpPr>
        <p:spPr>
          <a:xfrm>
            <a:off x="3521160" y="5509800"/>
            <a:ext cx="274392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8" name="Freeform 7"/>
          <p:cNvSpPr/>
          <p:nvPr/>
        </p:nvSpPr>
        <p:spPr>
          <a:xfrm>
            <a:off x="3749760" y="3605040"/>
            <a:ext cx="1981080" cy="1676520"/>
          </a:xfrm>
          <a:custGeom>
            <a:avLst/>
            <a:gdLst>
              <a:gd name="textAreaLeft" fmla="*/ 0 w 1981080"/>
              <a:gd name="textAreaRight" fmla="*/ 1981440 w 1981080"/>
              <a:gd name="textAreaTop" fmla="*/ 0 h 1676520"/>
              <a:gd name="textAreaBottom" fmla="*/ 1676880 h 1676520"/>
            </a:gdLst>
            <a:ahLst/>
            <a:rect l="textAreaLeft" t="textAreaTop" r="textAreaRight" b="textAreaBottom"/>
            <a:pathLst>
              <a:path w="1248" h="1056">
                <a:moveTo>
                  <a:pt x="0" y="0"/>
                </a:moveTo>
                <a:cubicBezTo>
                  <a:pt x="24" y="100"/>
                  <a:pt x="48" y="200"/>
                  <a:pt x="144" y="336"/>
                </a:cubicBezTo>
                <a:cubicBezTo>
                  <a:pt x="240" y="472"/>
                  <a:pt x="392" y="696"/>
                  <a:pt x="576" y="816"/>
                </a:cubicBezTo>
                <a:cubicBezTo>
                  <a:pt x="760" y="936"/>
                  <a:pt x="1004" y="996"/>
                  <a:pt x="1248" y="1056"/>
                </a:cubicBez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9" name="Text Box 8"/>
          <p:cNvSpPr/>
          <p:nvPr/>
        </p:nvSpPr>
        <p:spPr>
          <a:xfrm>
            <a:off x="1870560" y="3376440"/>
            <a:ext cx="120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ecision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0" name="Text Box 9"/>
          <p:cNvSpPr/>
          <p:nvPr/>
        </p:nvSpPr>
        <p:spPr>
          <a:xfrm>
            <a:off x="4497480" y="551016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call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1" name="Text Box 10"/>
          <p:cNvSpPr/>
          <p:nvPr/>
        </p:nvSpPr>
        <p:spPr>
          <a:xfrm>
            <a:off x="4969800" y="49006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2" name="Text Box 11"/>
          <p:cNvSpPr/>
          <p:nvPr/>
        </p:nvSpPr>
        <p:spPr>
          <a:xfrm>
            <a:off x="3750840" y="37576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3" name="Text Box 12"/>
          <p:cNvSpPr/>
          <p:nvPr/>
        </p:nvSpPr>
        <p:spPr>
          <a:xfrm>
            <a:off x="4055400" y="42908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4" name="Text Box 13"/>
          <p:cNvSpPr/>
          <p:nvPr/>
        </p:nvSpPr>
        <p:spPr>
          <a:xfrm>
            <a:off x="5503320" y="50529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2"/>
          <p:cNvSpPr/>
          <p:nvPr/>
        </p:nvSpPr>
        <p:spPr>
          <a:xfrm>
            <a:off x="1619280" y="2276640"/>
            <a:ext cx="6019920" cy="365760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A common picture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cxnSp>
        <p:nvCxnSpPr>
          <p:cNvPr id="207" name="AutoShape 4"/>
          <p:cNvCxnSpPr/>
          <p:nvPr/>
        </p:nvCxnSpPr>
        <p:spPr>
          <a:xfrm>
            <a:off x="3447720" y="2657520"/>
            <a:ext cx="1080" cy="2286720"/>
          </a:xfrm>
          <a:prstGeom prst="straightConnector1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8" name="AutoShape 5"/>
          <p:cNvCxnSpPr/>
          <p:nvPr/>
        </p:nvCxnSpPr>
        <p:spPr>
          <a:xfrm>
            <a:off x="3448080" y="4943160"/>
            <a:ext cx="274392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9" name="Freeform 6"/>
          <p:cNvSpPr/>
          <p:nvPr/>
        </p:nvSpPr>
        <p:spPr>
          <a:xfrm>
            <a:off x="3828960" y="3114720"/>
            <a:ext cx="1981440" cy="1676520"/>
          </a:xfrm>
          <a:custGeom>
            <a:avLst/>
            <a:gdLst>
              <a:gd name="textAreaLeft" fmla="*/ 0 w 1981440"/>
              <a:gd name="textAreaRight" fmla="*/ 1981800 w 1981440"/>
              <a:gd name="textAreaTop" fmla="*/ 0 h 1676520"/>
              <a:gd name="textAreaBottom" fmla="*/ 1676880 h 1676520"/>
            </a:gdLst>
            <a:ahLst/>
            <a:rect l="textAreaLeft" t="textAreaTop" r="textAreaRight" b="textAreaBottom"/>
            <a:pathLst>
              <a:path w="1248" h="1056">
                <a:moveTo>
                  <a:pt x="0" y="0"/>
                </a:moveTo>
                <a:cubicBezTo>
                  <a:pt x="24" y="100"/>
                  <a:pt x="48" y="200"/>
                  <a:pt x="144" y="336"/>
                </a:cubicBezTo>
                <a:cubicBezTo>
                  <a:pt x="240" y="472"/>
                  <a:pt x="392" y="696"/>
                  <a:pt x="576" y="816"/>
                </a:cubicBezTo>
                <a:cubicBezTo>
                  <a:pt x="760" y="936"/>
                  <a:pt x="1004" y="996"/>
                  <a:pt x="1248" y="1056"/>
                </a:cubicBez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0" name="Text Box 7"/>
          <p:cNvSpPr/>
          <p:nvPr/>
        </p:nvSpPr>
        <p:spPr>
          <a:xfrm>
            <a:off x="1797840" y="3191040"/>
            <a:ext cx="120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ecision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1" name="Text Box 8"/>
          <p:cNvSpPr/>
          <p:nvPr/>
        </p:nvSpPr>
        <p:spPr>
          <a:xfrm>
            <a:off x="4576680" y="517212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call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2" name="Text Box 9"/>
          <p:cNvSpPr/>
          <p:nvPr/>
        </p:nvSpPr>
        <p:spPr>
          <a:xfrm>
            <a:off x="4897080" y="43340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Arial"/>
                <a:ea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3" name="Text Box 10"/>
          <p:cNvSpPr/>
          <p:nvPr/>
        </p:nvSpPr>
        <p:spPr>
          <a:xfrm>
            <a:off x="3754080" y="31147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Arial"/>
                <a:ea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4" name="Text Box 11"/>
          <p:cNvSpPr/>
          <p:nvPr/>
        </p:nvSpPr>
        <p:spPr>
          <a:xfrm>
            <a:off x="4058640" y="35719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Arial"/>
                <a:ea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5" name="Text Box 12"/>
          <p:cNvSpPr/>
          <p:nvPr/>
        </p:nvSpPr>
        <p:spPr>
          <a:xfrm>
            <a:off x="5430240" y="44863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Arial"/>
                <a:ea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6" name="Freeform 13"/>
          <p:cNvSpPr/>
          <p:nvPr/>
        </p:nvSpPr>
        <p:spPr>
          <a:xfrm rot="20745600">
            <a:off x="3753000" y="3038040"/>
            <a:ext cx="1981080" cy="1676520"/>
          </a:xfrm>
          <a:custGeom>
            <a:avLst/>
            <a:gdLst>
              <a:gd name="textAreaLeft" fmla="*/ 0 w 1981080"/>
              <a:gd name="textAreaRight" fmla="*/ 1981440 w 1981080"/>
              <a:gd name="textAreaTop" fmla="*/ 0 h 1676520"/>
              <a:gd name="textAreaBottom" fmla="*/ 1676880 h 1676520"/>
            </a:gdLst>
            <a:ahLst/>
            <a:rect l="textAreaLeft" t="textAreaTop" r="textAreaRight" b="textAreaBottom"/>
            <a:pathLst>
              <a:path w="1248" h="1056">
                <a:moveTo>
                  <a:pt x="0" y="0"/>
                </a:moveTo>
                <a:cubicBezTo>
                  <a:pt x="24" y="100"/>
                  <a:pt x="48" y="200"/>
                  <a:pt x="144" y="336"/>
                </a:cubicBezTo>
                <a:cubicBezTo>
                  <a:pt x="240" y="472"/>
                  <a:pt x="392" y="696"/>
                  <a:pt x="576" y="816"/>
                </a:cubicBezTo>
                <a:cubicBezTo>
                  <a:pt x="760" y="936"/>
                  <a:pt x="1004" y="996"/>
                  <a:pt x="1248" y="1056"/>
                </a:cubicBezTo>
              </a:path>
            </a:pathLst>
          </a:custGeom>
          <a:noFill/>
          <a:ln w="190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"/>
              </a:rPr>
              <a:t>F measure</a:t>
            </a: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Combined measure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(weighted harmonic mean)</a:t>
            </a: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People usually use balanced F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Lucida Sans"/>
              </a:rPr>
              <a:t>1 </a:t>
            </a: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measure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i.e., with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= ½ thus 1/F = ½ (1/P + 1/R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40000"/>
              </a:lnSpc>
              <a:spcBef>
                <a:spcPts val="55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Use this if you need to optimize a single measure that balances precision and recall.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9" name="Object 2"/>
              <p:cNvSpPr txBox="1"/>
              <p:nvPr/>
            </p:nvSpPr>
            <p:spPr>
              <a:xfrm>
                <a:off x="2754360" y="2454120"/>
                <a:ext cx="3405240" cy="158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α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The web graph: properties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Lucida Sans"/>
              </a:rPr>
              <a:t>Paolo Ferragina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Dipartimento di Informatica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Università di Pisa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2" name="Rounded Rectangle 3"/>
          <p:cNvSpPr/>
          <p:nvPr/>
        </p:nvSpPr>
        <p:spPr>
          <a:xfrm>
            <a:off x="5148360" y="6308640"/>
            <a:ext cx="3995640" cy="54936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entury Gothic"/>
                <a:ea typeface="Arial"/>
              </a:rPr>
              <a:t>Reading 19.1 and 19.2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The Web’s Characteristic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95280" y="1752120"/>
            <a:ext cx="8424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ize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1 trillion of pages is available (Google 7/08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50 billion static page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5-40K per page =&gt; terabytes &amp; terabyte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Size grows every day!!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Change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8% new pages, 25% new links change weekly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Life time of about 10 day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The Bow Tie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226" name="Picture 3" descr="bowtie"/>
          <p:cNvPicPr/>
          <p:nvPr/>
        </p:nvPicPr>
        <p:blipFill>
          <a:blip r:embed="rId1"/>
          <a:stretch/>
        </p:blipFill>
        <p:spPr>
          <a:xfrm>
            <a:off x="1260360" y="1700280"/>
            <a:ext cx="6624720" cy="507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2"/>
          <p:cNvSpPr/>
          <p:nvPr/>
        </p:nvSpPr>
        <p:spPr>
          <a:xfrm>
            <a:off x="1238400" y="465300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8" name="Oval 3"/>
          <p:cNvSpPr/>
          <p:nvPr/>
        </p:nvSpPr>
        <p:spPr>
          <a:xfrm rot="18223800">
            <a:off x="2311200" y="4031640"/>
            <a:ext cx="2041560" cy="301968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1908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75000"/>
              <a:buFont typeface="Comic Sans M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9" name="Oval 4"/>
          <p:cNvSpPr/>
          <p:nvPr/>
        </p:nvSpPr>
        <p:spPr>
          <a:xfrm>
            <a:off x="2863800" y="4411800"/>
            <a:ext cx="318960" cy="325440"/>
          </a:xfrm>
          <a:prstGeom prst="ellipse">
            <a:avLst/>
          </a:prstGeom>
          <a:solidFill>
            <a:srgbClr val="00e4a8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0" name="Oval 5"/>
          <p:cNvSpPr/>
          <p:nvPr/>
        </p:nvSpPr>
        <p:spPr>
          <a:xfrm>
            <a:off x="4202280" y="6039000"/>
            <a:ext cx="318960" cy="323640"/>
          </a:xfrm>
          <a:prstGeom prst="ellipse">
            <a:avLst/>
          </a:prstGeom>
          <a:solidFill>
            <a:srgbClr val="00e4a8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1" name="Oval 6"/>
          <p:cNvSpPr/>
          <p:nvPr/>
        </p:nvSpPr>
        <p:spPr>
          <a:xfrm>
            <a:off x="2608200" y="5973840"/>
            <a:ext cx="319320" cy="323640"/>
          </a:xfrm>
          <a:prstGeom prst="ellipse">
            <a:avLst/>
          </a:prstGeom>
          <a:solidFill>
            <a:srgbClr val="00e4a8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2" name="Oval 7"/>
          <p:cNvSpPr/>
          <p:nvPr/>
        </p:nvSpPr>
        <p:spPr>
          <a:xfrm>
            <a:off x="4776840" y="4541760"/>
            <a:ext cx="317520" cy="325440"/>
          </a:xfrm>
          <a:prstGeom prst="ellipse">
            <a:avLst/>
          </a:prstGeom>
          <a:solidFill>
            <a:srgbClr val="00e4a8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cxnSp>
        <p:nvCxnSpPr>
          <p:cNvPr id="233" name="AutoShape 8"/>
          <p:cNvCxnSpPr>
            <a:stCxn id="229" idx="6"/>
            <a:endCxn id="232" idx="2"/>
          </p:cNvCxnSpPr>
          <p:nvPr/>
        </p:nvCxnSpPr>
        <p:spPr>
          <a:xfrm>
            <a:off x="3192480" y="4573440"/>
            <a:ext cx="1573920" cy="1310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234" name="AutoShape 9"/>
          <p:cNvCxnSpPr>
            <a:stCxn id="229" idx="5"/>
            <a:endCxn id="230" idx="2"/>
          </p:cNvCxnSpPr>
          <p:nvPr/>
        </p:nvCxnSpPr>
        <p:spPr>
          <a:xfrm>
            <a:off x="3134880" y="4700160"/>
            <a:ext cx="1058040" cy="1500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235" name="AutoShape 10"/>
          <p:cNvCxnSpPr>
            <a:stCxn id="231" idx="7"/>
            <a:endCxn id="229" idx="4"/>
          </p:cNvCxnSpPr>
          <p:nvPr/>
        </p:nvCxnSpPr>
        <p:spPr>
          <a:xfrm flipV="1">
            <a:off x="2881440" y="4747680"/>
            <a:ext cx="141840" cy="12628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236" name="AutoShape 11"/>
          <p:cNvCxnSpPr>
            <a:stCxn id="230" idx="2"/>
            <a:endCxn id="231" idx="6"/>
          </p:cNvCxnSpPr>
          <p:nvPr/>
        </p:nvCxnSpPr>
        <p:spPr>
          <a:xfrm flipH="1" flipV="1">
            <a:off x="2937960" y="6135480"/>
            <a:ext cx="1254960" cy="65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237" name="AutoShape 12"/>
          <p:cNvCxnSpPr>
            <a:stCxn id="229" idx="3"/>
            <a:endCxn id="231" idx="0"/>
          </p:cNvCxnSpPr>
          <p:nvPr/>
        </p:nvCxnSpPr>
        <p:spPr>
          <a:xfrm flipH="1">
            <a:off x="2768400" y="4700520"/>
            <a:ext cx="141840" cy="12628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238" name="Oval 13"/>
          <p:cNvSpPr/>
          <p:nvPr/>
        </p:nvSpPr>
        <p:spPr>
          <a:xfrm>
            <a:off x="5796000" y="5062680"/>
            <a:ext cx="318960" cy="325440"/>
          </a:xfrm>
          <a:prstGeom prst="ellipse">
            <a:avLst/>
          </a:prstGeom>
          <a:solidFill>
            <a:srgbClr val="00e4a8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9" name="Rectangle 14"/>
          <p:cNvSpPr/>
          <p:nvPr/>
        </p:nvSpPr>
        <p:spPr>
          <a:xfrm>
            <a:off x="2162160" y="4932360"/>
            <a:ext cx="50976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0" name="Text Box 15"/>
          <p:cNvSpPr/>
          <p:nvPr/>
        </p:nvSpPr>
        <p:spPr>
          <a:xfrm>
            <a:off x="3632040" y="5127480"/>
            <a:ext cx="92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CC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1" name="Text Box 16"/>
          <p:cNvSpPr/>
          <p:nvPr/>
        </p:nvSpPr>
        <p:spPr>
          <a:xfrm>
            <a:off x="4141080" y="3890880"/>
            <a:ext cx="102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WCC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2" name="Oval 17"/>
          <p:cNvSpPr/>
          <p:nvPr/>
        </p:nvSpPr>
        <p:spPr>
          <a:xfrm rot="2604000">
            <a:off x="2555640" y="3511440"/>
            <a:ext cx="2786040" cy="3529080"/>
          </a:xfrm>
          <a:prstGeom prst="ellipse">
            <a:avLst/>
          </a:prstGeom>
          <a:noFill/>
          <a:ln w="2844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Some definition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24000" y="1773000"/>
            <a:ext cx="7772400" cy="466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Weakly connected components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(WCC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339840" indent="-225360">
              <a:spcBef>
                <a:spcPts val="45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Set of nodes such that from any node can go to any node via an </a:t>
            </a:r>
            <a:r>
              <a:rPr b="1" lang="en-US" sz="1800" spc="-1" strike="noStrike">
                <a:solidFill>
                  <a:srgbClr val="a40508"/>
                </a:solidFill>
                <a:latin typeface="Lucida Sans"/>
              </a:rPr>
              <a:t>undirected</a:t>
            </a: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 path.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spcBef>
                <a:spcPts val="4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Strongly connected components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(SCC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339840" indent="-225360">
              <a:spcBef>
                <a:spcPts val="45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Set of nodes such that from any node can go to any node via a </a:t>
            </a:r>
            <a:r>
              <a:rPr b="1" lang="en-US" sz="1800" spc="-1" strike="noStrike">
                <a:solidFill>
                  <a:srgbClr val="a40508"/>
                </a:solidFill>
                <a:latin typeface="Lucida Sans"/>
              </a:rPr>
              <a:t>directed</a:t>
            </a: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 path.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5" name="Oval 20"/>
          <p:cNvSpPr/>
          <p:nvPr/>
        </p:nvSpPr>
        <p:spPr>
          <a:xfrm>
            <a:off x="6629400" y="4452840"/>
            <a:ext cx="318960" cy="325440"/>
          </a:xfrm>
          <a:prstGeom prst="ellipse">
            <a:avLst/>
          </a:prstGeom>
          <a:solidFill>
            <a:srgbClr val="00e4a8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6" name="Line 21"/>
          <p:cNvSpPr/>
          <p:nvPr/>
        </p:nvSpPr>
        <p:spPr>
          <a:xfrm flipV="1">
            <a:off x="6067440" y="4760640"/>
            <a:ext cx="623880" cy="393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Lucida Sans"/>
              </a:rPr>
              <a:t>Find the CORE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79280" y="1645920"/>
            <a:ext cx="82296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55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Lucida Sans"/>
              </a:rPr>
              <a:t>Iterate the following process: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6094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99"/>
                </a:solidFill>
                <a:latin typeface="Times New Roman"/>
              </a:rPr>
              <a:t>Pick a random vertex </a:t>
            </a:r>
            <a:r>
              <a:rPr b="1" i="1" lang="it-IT" sz="2400" spc="-1" strike="noStrike">
                <a:solidFill>
                  <a:srgbClr val="000099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99"/>
                </a:solidFill>
                <a:latin typeface="Times New Roman"/>
              </a:rPr>
              <a:t>Compute all nodes reached from </a:t>
            </a:r>
            <a:r>
              <a:rPr b="1" i="1" lang="it-IT" sz="2400" spc="-1" strike="noStrike">
                <a:solidFill>
                  <a:srgbClr val="000099"/>
                </a:solidFill>
                <a:latin typeface="Times New Roman"/>
              </a:rPr>
              <a:t>v</a:t>
            </a:r>
            <a:r>
              <a:rPr b="0" i="1" lang="it-IT" sz="2400" spc="-1" strike="noStrike">
                <a:solidFill>
                  <a:srgbClr val="000099"/>
                </a:solidFill>
                <a:latin typeface="Times New Roman"/>
              </a:rPr>
              <a:t>: O(</a:t>
            </a:r>
            <a:r>
              <a:rPr b="1" i="1" lang="it-IT" sz="2400" spc="-1" strike="noStrike">
                <a:solidFill>
                  <a:srgbClr val="000099"/>
                </a:solidFill>
                <a:latin typeface="Times New Roman"/>
              </a:rPr>
              <a:t>v</a:t>
            </a:r>
            <a:r>
              <a:rPr b="0" i="1" lang="it-IT" sz="2400" spc="-1" strike="noStrike">
                <a:solidFill>
                  <a:srgbClr val="000099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99"/>
                </a:solidFill>
                <a:latin typeface="Times New Roman"/>
              </a:rPr>
              <a:t>Compute all nodes that reach </a:t>
            </a:r>
            <a:r>
              <a:rPr b="1" i="1" lang="it-IT" sz="2400" spc="-1" strike="noStrike">
                <a:solidFill>
                  <a:srgbClr val="000099"/>
                </a:solidFill>
                <a:latin typeface="Times New Roman"/>
              </a:rPr>
              <a:t>v</a:t>
            </a:r>
            <a:r>
              <a:rPr b="0" i="1" lang="it-IT" sz="2400" spc="-1" strike="noStrike">
                <a:solidFill>
                  <a:srgbClr val="000099"/>
                </a:solidFill>
                <a:latin typeface="Times New Roman"/>
              </a:rPr>
              <a:t>: I(</a:t>
            </a:r>
            <a:r>
              <a:rPr b="1" i="1" lang="it-IT" sz="2400" spc="-1" strike="noStrike">
                <a:solidFill>
                  <a:srgbClr val="000099"/>
                </a:solidFill>
                <a:latin typeface="Times New Roman"/>
              </a:rPr>
              <a:t>v</a:t>
            </a:r>
            <a:r>
              <a:rPr b="0" i="1" lang="it-IT" sz="2400" spc="-1" strike="noStrike">
                <a:solidFill>
                  <a:srgbClr val="000099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99"/>
                </a:solidFill>
                <a:latin typeface="Times New Roman"/>
              </a:rPr>
              <a:t>Compute SCC(</a:t>
            </a:r>
            <a:r>
              <a:rPr b="1" i="1" lang="it-IT" sz="2400" spc="-1" strike="noStrike">
                <a:solidFill>
                  <a:srgbClr val="000099"/>
                </a:solidFill>
                <a:latin typeface="Times New Roman"/>
              </a:rPr>
              <a:t>v</a:t>
            </a:r>
            <a:r>
              <a:rPr b="0" i="1" lang="it-IT" sz="2400" spc="-1" strike="noStrike">
                <a:solidFill>
                  <a:srgbClr val="000099"/>
                </a:solidFill>
                <a:latin typeface="Times New Roman"/>
              </a:rPr>
              <a:t>):=  I(</a:t>
            </a:r>
            <a:r>
              <a:rPr b="1" i="1" lang="it-IT" sz="2400" spc="-1" strike="noStrike">
                <a:solidFill>
                  <a:srgbClr val="000099"/>
                </a:solidFill>
                <a:latin typeface="Times New Roman"/>
              </a:rPr>
              <a:t>v</a:t>
            </a:r>
            <a:r>
              <a:rPr b="0" i="1" lang="it-IT" sz="2400" spc="-1" strike="noStrike">
                <a:solidFill>
                  <a:srgbClr val="000099"/>
                </a:solidFill>
                <a:latin typeface="Times New Roman"/>
              </a:rPr>
              <a:t>) </a:t>
            </a:r>
            <a:r>
              <a:rPr b="0" i="1" lang="it-IT" sz="2400" spc="-1" strike="noStrike">
                <a:solidFill>
                  <a:srgbClr val="000099"/>
                </a:solidFill>
                <a:latin typeface="Arial Narrow"/>
              </a:rPr>
              <a:t>∩</a:t>
            </a:r>
            <a:r>
              <a:rPr b="0" i="1" lang="it-IT" sz="2400" spc="-1" strike="noStrike">
                <a:solidFill>
                  <a:srgbClr val="000099"/>
                </a:solidFill>
                <a:latin typeface="Times New Roman"/>
              </a:rPr>
              <a:t> O(</a:t>
            </a:r>
            <a:r>
              <a:rPr b="1" i="1" lang="it-IT" sz="2400" spc="-1" strike="noStrike">
                <a:solidFill>
                  <a:srgbClr val="000099"/>
                </a:solidFill>
                <a:latin typeface="Times New Roman"/>
              </a:rPr>
              <a:t>v</a:t>
            </a:r>
            <a:r>
              <a:rPr b="0" i="1" lang="it-IT" sz="2400" spc="-1" strike="noStrike">
                <a:solidFill>
                  <a:srgbClr val="000099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99"/>
                </a:solidFill>
                <a:latin typeface="Times New Roman"/>
              </a:rPr>
              <a:t>Check whether it is the largest SCC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179280" y="5770440"/>
            <a:ext cx="878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If the CORE is about ¼ of the vertices, after 20 iterations, Pb to not find the core &lt; 1% (given that the graph is </a:t>
            </a:r>
            <a:r>
              <a:rPr b="1" lang="it-IT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vailable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transition>
    <p:wipe dir="d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Lucida Sans"/>
              </a:rPr>
              <a:t>Compute SCCs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-49536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000000"/>
                </a:solidFill>
                <a:latin typeface="Lucida Sans"/>
              </a:rPr>
              <a:t>Classical Algorithm: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SzPct val="55000"/>
              <a:buFont typeface="Lucida Sans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DFS(</a:t>
            </a:r>
            <a:r>
              <a:rPr b="1" lang="it-IT" sz="2400" spc="-1" strike="noStrike">
                <a:solidFill>
                  <a:srgbClr val="000000"/>
                </a:solidFill>
                <a:latin typeface="Lucida Sans"/>
              </a:rPr>
              <a:t>G</a:t>
            </a: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SzPct val="55000"/>
              <a:buFont typeface="Lucida Sans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Transpose </a:t>
            </a:r>
            <a:r>
              <a:rPr b="1" lang="it-IT" sz="2400" spc="-1" strike="noStrike">
                <a:solidFill>
                  <a:srgbClr val="000000"/>
                </a:solidFill>
                <a:latin typeface="Lucida Sans"/>
              </a:rPr>
              <a:t>G </a:t>
            </a: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in </a:t>
            </a:r>
            <a:r>
              <a:rPr b="1" lang="it-IT" sz="2400" spc="-1" strike="noStrike">
                <a:solidFill>
                  <a:srgbClr val="000000"/>
                </a:solidFill>
                <a:latin typeface="Lucida Sans"/>
              </a:rPr>
              <a:t>G</a:t>
            </a:r>
            <a:r>
              <a:rPr b="1" lang="it-IT" sz="2400" spc="-1" strike="noStrike" baseline="30000">
                <a:solidFill>
                  <a:srgbClr val="000000"/>
                </a:solidFill>
                <a:latin typeface="Lucida Sans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SzPct val="55000"/>
              <a:buFont typeface="Lucida Sans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DFS(G</a:t>
            </a:r>
            <a:r>
              <a:rPr b="0" lang="it-IT" sz="2400" spc="-1" strike="noStrike" baseline="30000">
                <a:solidFill>
                  <a:srgbClr val="000000"/>
                </a:solidFill>
                <a:latin typeface="Lucida Sans"/>
              </a:rPr>
              <a:t>T</a:t>
            </a: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) following vertices in decreasing order of  the time their visit ended at step 1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SzPct val="55000"/>
              <a:buFont typeface="Lucida Sans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Every tree is a SCC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953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4953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Lucida Sans"/>
              </a:rPr>
              <a:t>DFS is hard to compute on disk: </a:t>
            </a:r>
            <a:r>
              <a:rPr b="0" i="1" lang="it-IT" sz="2600" spc="-1" strike="noStrike">
                <a:solidFill>
                  <a:srgbClr val="a40508"/>
                </a:solidFill>
                <a:latin typeface="Lucida Sans"/>
              </a:rPr>
              <a:t>no locality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Evolution of Search Engines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First generati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1c1c1c"/>
                </a:solidFill>
                <a:latin typeface="Tahoma"/>
              </a:rPr>
              <a:t>-- </a:t>
            </a:r>
            <a:r>
              <a:rPr b="0" lang="en-US" sz="2000" spc="-1" strike="noStrike">
                <a:solidFill>
                  <a:srgbClr val="0008c1"/>
                </a:solidFill>
                <a:latin typeface="Tahoma"/>
              </a:rPr>
              <a:t>use only on-page, web-text data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ord frequency and language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Second generati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8c1"/>
                </a:solidFill>
                <a:latin typeface="Tahoma"/>
              </a:rPr>
              <a:t>-- use off-page, web-graph data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nk (or connectivity) analysis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nchor-text (How people refer to a page)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230000"/>
              </a:lnSpc>
              <a:spcBef>
                <a:spcPts val="4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Third generati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1c1c1c"/>
                </a:solidFill>
                <a:latin typeface="Tahoma"/>
              </a:rPr>
              <a:t>-- </a:t>
            </a:r>
            <a:r>
              <a:rPr b="0" lang="en-US" sz="2000" spc="-1" strike="noStrike">
                <a:solidFill>
                  <a:srgbClr val="0008c1"/>
                </a:solidFill>
                <a:latin typeface="Tahoma"/>
              </a:rPr>
              <a:t>answer “the need behind the query”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cus on “user need”, rather than on query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tegrate multiple data-sources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lick-through data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6845400" y="1989000"/>
            <a:ext cx="2298600" cy="642600"/>
          </a:xfrm>
          <a:prstGeom prst="rect">
            <a:avLst/>
          </a:prstGeom>
          <a:solidFill>
            <a:srgbClr val="88f29c"/>
          </a:solidFill>
          <a:ln w="28440">
            <a:solidFill>
              <a:srgbClr val="98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80000"/>
                </a:solidFill>
                <a:latin typeface="Arial"/>
                <a:ea typeface="Arial"/>
              </a:rPr>
              <a:t>1995-1997 AltaVista, Excite, Lycos, etc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6551640" y="3357720"/>
            <a:ext cx="2592360" cy="617400"/>
          </a:xfrm>
          <a:prstGeom prst="rect">
            <a:avLst/>
          </a:prstGeom>
          <a:solidFill>
            <a:srgbClr val="88f29c"/>
          </a:solidFill>
          <a:ln w="28440">
            <a:solidFill>
              <a:srgbClr val="98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80000"/>
                </a:solidFill>
                <a:latin typeface="Arial"/>
                <a:ea typeface="Arial"/>
              </a:rPr>
              <a:t>1998: Google 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0" name="AutoShape 6"/>
          <p:cNvSpPr/>
          <p:nvPr/>
        </p:nvSpPr>
        <p:spPr>
          <a:xfrm>
            <a:off x="1549440" y="6093000"/>
            <a:ext cx="5543640" cy="691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660066"/>
                </a:solidFill>
                <a:latin typeface="Tahoma"/>
                <a:ea typeface="Arial"/>
              </a:rPr>
              <a:t>Fourth generation  </a:t>
            </a:r>
            <a:r>
              <a:rPr b="0" lang="it-IT" sz="1800" spc="-1" strike="noStrike">
                <a:solidFill>
                  <a:srgbClr val="660066"/>
                </a:solidFill>
                <a:latin typeface="Wingdings"/>
                <a:ea typeface="Wingdings"/>
              </a:rPr>
              <a:t></a:t>
            </a:r>
            <a:r>
              <a:rPr b="0" lang="it-IT" sz="1800" spc="-1" strike="noStrike">
                <a:solidFill>
                  <a:srgbClr val="660066"/>
                </a:solidFill>
                <a:latin typeface="Tahoma"/>
                <a:ea typeface="Arial"/>
              </a:rPr>
              <a:t>  Information Supply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  <a:ea typeface="Arial"/>
              </a:rPr>
              <a:t>[Andrei Broder, VP emerging search tech, Yahoo! Research]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6227640" y="5084640"/>
            <a:ext cx="2592360" cy="699840"/>
          </a:xfrm>
          <a:prstGeom prst="rect">
            <a:avLst/>
          </a:prstGeom>
          <a:solidFill>
            <a:srgbClr val="88f29c"/>
          </a:solidFill>
          <a:ln w="28440">
            <a:solidFill>
              <a:srgbClr val="98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80000"/>
                </a:solidFill>
                <a:latin typeface="Arial"/>
                <a:ea typeface="Arial"/>
              </a:rPr>
              <a:t>Google, Yahoo, 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80000"/>
                </a:solidFill>
                <a:latin typeface="Arial"/>
                <a:ea typeface="Arial"/>
              </a:rPr>
              <a:t>MSN, ASK,……… 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Lucida Sans"/>
              </a:rPr>
              <a:t>DFS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3" name="Text Box 3"/>
          <p:cNvSpPr/>
          <p:nvPr/>
        </p:nvSpPr>
        <p:spPr>
          <a:xfrm>
            <a:off x="179280" y="5857920"/>
            <a:ext cx="8569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3924360" y="2133720"/>
            <a:ext cx="4464000" cy="33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</a:t>
            </a:r>
            <a:r>
              <a:rPr b="0" i="1" lang="it-IT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DFS(u:vertex)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i="1" lang="it-IT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color[u]=GRAY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0" i="1" lang="it-IT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i="1" lang="it-IT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d[u]</a:t>
            </a:r>
            <a:r>
              <a:rPr b="0" i="1" lang="it-IT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i="1" lang="it-IT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time </a:t>
            </a:r>
            <a:r>
              <a:rPr b="0" i="1" lang="it-IT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i="1" lang="it-IT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time +1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i="1" lang="it-IT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foreach v in succ[u] do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i="1" lang="it-IT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i="1" lang="it-IT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if (color[v]=WHITE) then 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i="1" lang="it-IT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i="1" lang="it-IT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i="1" lang="it-IT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p[v]</a:t>
            </a:r>
            <a:r>
              <a:rPr b="0" i="1" lang="it-IT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i="1" lang="it-IT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u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i="1" lang="it-IT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i="1" lang="it-IT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DFS(v)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i="1" lang="it-IT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endFor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i="1" lang="it-IT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color[u]</a:t>
            </a:r>
            <a:r>
              <a:rPr b="0" i="1" lang="it-IT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i="1" lang="it-IT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BLACK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i="1" lang="it-IT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f[u] </a:t>
            </a:r>
            <a:r>
              <a:rPr b="0" i="1" lang="it-IT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i="1" lang="it-IT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time </a:t>
            </a:r>
            <a:r>
              <a:rPr b="0" i="1" lang="it-IT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i="1" lang="it-IT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time + 1</a:t>
            </a:r>
            <a:r>
              <a:rPr b="0" i="1" lang="it-IT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i="1" lang="it-IT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i="1" lang="it-IT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i="1" lang="it-IT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5" name="Rectangle 5"/>
          <p:cNvSpPr/>
          <p:nvPr/>
        </p:nvSpPr>
        <p:spPr>
          <a:xfrm>
            <a:off x="380880" y="1685880"/>
            <a:ext cx="32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Arial"/>
              </a:rPr>
              <a:t>Classical Approach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39640" y="2565360"/>
            <a:ext cx="3827520" cy="338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e4a8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500" spc="-1" strike="noStrike">
                <a:solidFill>
                  <a:srgbClr val="000000"/>
                </a:solidFill>
                <a:latin typeface="Lucida Sans"/>
              </a:rPr>
              <a:t>main()</a:t>
            </a:r>
            <a:r>
              <a:rPr b="0" i="1" lang="it-IT" sz="1500" spc="-1" strike="noStrike">
                <a:solidFill>
                  <a:srgbClr val="000000"/>
                </a:solidFill>
                <a:latin typeface="Lucida Sans"/>
              </a:rPr>
              <a:t>{</a:t>
            </a:r>
            <a:endParaRPr b="0" lang="en-US" sz="15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5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it-IT" sz="1500" spc="-1" strike="noStrike">
                <a:solidFill>
                  <a:srgbClr val="000000"/>
                </a:solidFill>
                <a:latin typeface="Times New Roman"/>
              </a:rPr>
              <a:t>foreach</a:t>
            </a:r>
            <a:r>
              <a:rPr b="0" i="1" lang="it-IT" sz="1500" spc="-1" strike="noStrike">
                <a:solidFill>
                  <a:srgbClr val="000000"/>
                </a:solidFill>
                <a:latin typeface="Times New Roman"/>
              </a:rPr>
              <a:t> vertex v </a:t>
            </a:r>
            <a:r>
              <a:rPr b="1" i="1" lang="it-IT" sz="1500" spc="-1" strike="noStrike">
                <a:solidFill>
                  <a:srgbClr val="000000"/>
                </a:solidFill>
                <a:latin typeface="Times New Roman"/>
              </a:rPr>
              <a:t>do</a:t>
            </a:r>
            <a:r>
              <a:rPr b="0" i="1" lang="it-IT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it-IT" sz="1500" spc="-1" strike="noStrike">
                <a:solidFill>
                  <a:srgbClr val="000000"/>
                </a:solidFill>
                <a:latin typeface="Times New Roman"/>
              </a:rPr>
              <a:t>color[v]=WHITE</a:t>
            </a:r>
            <a:endParaRPr b="0" lang="en-US" sz="15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5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it-IT" sz="1500" spc="-1" strike="noStrike">
                <a:solidFill>
                  <a:srgbClr val="000000"/>
                </a:solidFill>
                <a:latin typeface="Times New Roman"/>
              </a:rPr>
              <a:t>endFor</a:t>
            </a:r>
            <a:endParaRPr b="0" lang="en-US" sz="15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5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it-IT" sz="1500" spc="-1" strike="noStrike">
                <a:solidFill>
                  <a:srgbClr val="000000"/>
                </a:solidFill>
                <a:latin typeface="Times New Roman"/>
              </a:rPr>
              <a:t>foreach</a:t>
            </a:r>
            <a:r>
              <a:rPr b="0" i="1" lang="it-IT" sz="1500" spc="-1" strike="noStrike">
                <a:solidFill>
                  <a:srgbClr val="000000"/>
                </a:solidFill>
                <a:latin typeface="Times New Roman"/>
              </a:rPr>
              <a:t> vertex v </a:t>
            </a:r>
            <a:r>
              <a:rPr b="1" i="1" lang="it-IT" sz="1500" spc="-1" strike="noStrike">
                <a:solidFill>
                  <a:srgbClr val="000000"/>
                </a:solidFill>
                <a:latin typeface="Times New Roman"/>
              </a:rPr>
              <a:t>do</a:t>
            </a:r>
            <a:r>
              <a:rPr b="0" i="1" lang="it-IT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it-IT" sz="1500" spc="-1" strike="noStrike">
                <a:solidFill>
                  <a:srgbClr val="000000"/>
                </a:solidFill>
                <a:latin typeface="Times New Roman"/>
              </a:rPr>
              <a:t>if (color[v]==WHITE)</a:t>
            </a:r>
            <a:endParaRPr b="0" lang="en-US" sz="15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it-IT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it-IT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it-IT" sz="1500" spc="-1" strike="noStrike">
                <a:solidFill>
                  <a:srgbClr val="000000"/>
                </a:solidFill>
                <a:latin typeface="Times New Roman"/>
              </a:rPr>
              <a:t>DFS(v);</a:t>
            </a:r>
            <a:endParaRPr b="0" lang="en-US" sz="15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5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it-IT" sz="1500" spc="-1" strike="noStrike">
                <a:solidFill>
                  <a:srgbClr val="000000"/>
                </a:solidFill>
                <a:latin typeface="Times New Roman"/>
              </a:rPr>
              <a:t>endFor</a:t>
            </a:r>
            <a:endParaRPr b="0" lang="en-US" sz="15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5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7" name="Rectangle 6"/>
          <p:cNvSpPr/>
          <p:nvPr/>
        </p:nvSpPr>
        <p:spPr>
          <a:xfrm>
            <a:off x="324000" y="3141720"/>
            <a:ext cx="2592360" cy="287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8" name="Rectangle 7"/>
          <p:cNvSpPr/>
          <p:nvPr/>
        </p:nvSpPr>
        <p:spPr>
          <a:xfrm>
            <a:off x="324000" y="3933720"/>
            <a:ext cx="2592360" cy="287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9" name="Rectangle 8"/>
          <p:cNvSpPr/>
          <p:nvPr/>
        </p:nvSpPr>
        <p:spPr>
          <a:xfrm>
            <a:off x="4500720" y="4365720"/>
            <a:ext cx="2808000" cy="57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0" name="Rectangle 9"/>
          <p:cNvSpPr/>
          <p:nvPr/>
        </p:nvSpPr>
        <p:spPr>
          <a:xfrm>
            <a:off x="5796000" y="3294000"/>
            <a:ext cx="2592360" cy="566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1" name="Rectangle 10"/>
          <p:cNvSpPr/>
          <p:nvPr/>
        </p:nvSpPr>
        <p:spPr>
          <a:xfrm>
            <a:off x="4572000" y="2421000"/>
            <a:ext cx="2879640" cy="576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2" name="Left Arrow 12"/>
          <p:cNvSpPr/>
          <p:nvPr/>
        </p:nvSpPr>
        <p:spPr>
          <a:xfrm>
            <a:off x="7631280" y="2924280"/>
            <a:ext cx="1512720" cy="504720"/>
          </a:xfrm>
          <a:prstGeom prst="leftArrow">
            <a:avLst>
              <a:gd name="adj1" fmla="val 50000"/>
              <a:gd name="adj2" fmla="val 49952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transition>
    <p:wipe dir="d"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Lucida Sans"/>
              </a:rPr>
              <a:t>Semi-External DFS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4" name="Text Box 3"/>
          <p:cNvSpPr/>
          <p:nvPr/>
        </p:nvSpPr>
        <p:spPr>
          <a:xfrm>
            <a:off x="539640" y="3573360"/>
            <a:ext cx="835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a40508"/>
                </a:solidFill>
                <a:latin typeface="Lucida Sans"/>
                <a:ea typeface="Arial"/>
              </a:rPr>
              <a:t>Key observation: 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  <a:ea typeface="Arial"/>
              </a:rPr>
              <a:t>If bit-array fits in internal memory than a DFS takes |V| + |E|/B disk accesses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5" name="Text Box 4"/>
          <p:cNvSpPr/>
          <p:nvPr/>
        </p:nvSpPr>
        <p:spPr>
          <a:xfrm>
            <a:off x="539640" y="1844640"/>
            <a:ext cx="7705800" cy="13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SzPct val="60000"/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  <a:ea typeface="Arial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  <a:ea typeface="Arial"/>
              </a:rPr>
              <a:t>Bit array of nodes        (visited or not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SzPct val="60000"/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  <a:ea typeface="Arial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  <a:ea typeface="Arial"/>
              </a:rPr>
              <a:t>Array of successors   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SzPct val="60000"/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  <a:ea typeface="Arial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  <a:ea typeface="Arial"/>
              </a:rPr>
              <a:t>Stack of the DFS-recursion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transition>
    <p:wipe dir="d"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Lucida Sans"/>
              </a:rPr>
              <a:t>Observing Web Graph 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55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Lucida Sans"/>
              </a:rPr>
              <a:t>We do not know which </a:t>
            </a:r>
            <a:r>
              <a:rPr b="1" lang="it-IT" sz="2200" spc="-1" strike="noStrike">
                <a:solidFill>
                  <a:srgbClr val="000000"/>
                </a:solidFill>
                <a:latin typeface="Lucida Sans"/>
              </a:rPr>
              <a:t>percentage</a:t>
            </a:r>
            <a:r>
              <a:rPr b="0" lang="it-IT" sz="2200" spc="-1" strike="noStrike">
                <a:solidFill>
                  <a:srgbClr val="000000"/>
                </a:solidFill>
                <a:latin typeface="Lucida Sans"/>
              </a:rPr>
              <a:t> of it we know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55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The only way to discover the graph structure of the web is via large scale crawls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55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Warning: the picture might be </a:t>
            </a:r>
            <a:r>
              <a:rPr b="1" lang="en-US" sz="2200" spc="-1" strike="noStrike">
                <a:solidFill>
                  <a:srgbClr val="000000"/>
                </a:solidFill>
                <a:latin typeface="Lucida Sans"/>
              </a:rPr>
              <a:t>distorted</a:t>
            </a: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 by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Size limitation of the crawl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Crawling rule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Perturbations of the "natural" process of birth  and death of nodes and link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Why is it interesting?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46040" y="1782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Largest artifact ever conceived by the human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Exploit its structure of the Web for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2" marL="681120" indent="-227160">
              <a:spcBef>
                <a:spcPts val="49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Crawl strategies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2" marL="681120" indent="-227160">
              <a:spcBef>
                <a:spcPts val="49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Search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2" marL="681120" indent="-227160">
              <a:spcBef>
                <a:spcPts val="49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Spam detection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2" marL="681120" indent="-227160">
              <a:spcBef>
                <a:spcPts val="49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Discovering communities on the web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2" marL="681120" indent="-227160">
              <a:spcBef>
                <a:spcPts val="49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Classification/organization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50000"/>
              </a:lnSpc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Predict the evolution of the Web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2" marL="681120" indent="-227160">
              <a:lnSpc>
                <a:spcPct val="150000"/>
              </a:lnSpc>
              <a:spcBef>
                <a:spcPts val="49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Sociological understanding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Many other large graphs…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8207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5000"/>
              </a:lnSpc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Physical network graph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V = Router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E = communication link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The “cosine” graph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(undirected, weighted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V = static web page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E = </a:t>
            </a: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semantic distance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between page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Query-Log graph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(bipartite, weighted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V = queries and URL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E = (q,u) u is a result for q, and has been clicked by some user who issued q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Social graph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(undirected, unweighted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V = user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E = (x,y)  if x </a:t>
            </a: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knows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y (facebook, address book, email,..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The size of the web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Lucida Sans"/>
              </a:rPr>
              <a:t>Paolo Ferragina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Dipartimento di Informatica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Università di Pisa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74" name="Rounded Rectangle 3"/>
          <p:cNvSpPr/>
          <p:nvPr/>
        </p:nvSpPr>
        <p:spPr>
          <a:xfrm>
            <a:off x="5148360" y="6308640"/>
            <a:ext cx="3995640" cy="54936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entury Gothic"/>
                <a:ea typeface="Arial"/>
              </a:rPr>
              <a:t>Reading 19.5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  <a:ea typeface="MS PGothic"/>
              </a:rPr>
              <a:t>What is the size of the web ?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MS PGothic"/>
              </a:rPr>
              <a:t>Issue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MS PGothic"/>
              </a:rPr>
              <a:t>The web is really infinite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MS PGothic"/>
              </a:rPr>
              <a:t>Dynamic content, e.g., calendar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MS PGothic"/>
              </a:rPr>
              <a:t>Static web contains syntactic duplication, mostly due to mirroring (~30%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MS PGothic"/>
              </a:rPr>
              <a:t>Some servers are seldom connected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MS PGothic"/>
              </a:rPr>
              <a:t>Who cares?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MS PGothic"/>
              </a:rPr>
              <a:t>Media, and consequently the user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MS PGothic"/>
              </a:rPr>
              <a:t>Engine design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  <a:ea typeface="MS PGothic"/>
              </a:rPr>
              <a:t>What can we attempt to measure?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32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MS PGothic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MS PGothic"/>
              </a:rPr>
              <a:t>The relative sizes of search engines 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2" marL="681120" indent="-227160">
              <a:spcBef>
                <a:spcPts val="49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MS PGothic"/>
              </a:rPr>
              <a:t>Document extension: e.g. engines index pages not yet crawled, by indexing anchor-text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2" marL="681120" indent="-227160">
              <a:spcBef>
                <a:spcPts val="49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MS PGothic"/>
              </a:rPr>
              <a:t>Document restriction: All engines restrict what is indexed (first</a:t>
            </a:r>
            <a:r>
              <a:rPr b="0" i="1" lang="en-US" sz="2000" spc="-1" strike="noStrike">
                <a:solidFill>
                  <a:srgbClr val="000000"/>
                </a:solidFill>
                <a:latin typeface="Lucida Sans"/>
                <a:ea typeface="MS PGothic"/>
              </a:rPr>
              <a:t> n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MS PGothic"/>
              </a:rPr>
              <a:t> words, only relevant words, etc.)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MS PGothic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MS PGothic"/>
              </a:rPr>
              <a:t>The coverage of a search engine relative to another particular crawling process.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transition spd="med">
    <p:cover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Text Box 2"/>
          <p:cNvSpPr/>
          <p:nvPr/>
        </p:nvSpPr>
        <p:spPr>
          <a:xfrm>
            <a:off x="3809880" y="3429000"/>
            <a:ext cx="5334120" cy="22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Arial"/>
              </a:rPr>
              <a:t>A</a:t>
            </a:r>
            <a:r>
              <a:rPr b="1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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Arial"/>
              </a:rPr>
              <a:t>B</a:t>
            </a:r>
            <a:r>
              <a:rPr b="1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Arial"/>
              </a:rPr>
              <a:t>=  (1/2) * Size A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Arial"/>
              </a:rPr>
              <a:t>A</a:t>
            </a:r>
            <a:r>
              <a:rPr b="1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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Arial"/>
              </a:rPr>
              <a:t>B</a:t>
            </a:r>
            <a:r>
              <a:rPr b="1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Arial"/>
              </a:rPr>
              <a:t>=  (1/6) * Size B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Arial"/>
              </a:rPr>
              <a:t>(1/2)*Size A = (1/6)*Size B</a:t>
            </a:r>
            <a:r>
              <a:rPr b="1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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Arial"/>
              </a:rPr>
              <a:t>Size A / Size B =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Arial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Arial"/>
              </a:rPr>
              <a:t>(1/6)/(1/2) = 1/3</a:t>
            </a:r>
            <a:r>
              <a:rPr b="1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0" name="Text Box 3"/>
          <p:cNvSpPr/>
          <p:nvPr/>
        </p:nvSpPr>
        <p:spPr>
          <a:xfrm>
            <a:off x="3581280" y="1863720"/>
            <a:ext cx="5486400" cy="12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Lucida Sans"/>
                <a:ea typeface="Arial"/>
              </a:rPr>
              <a:t>Sample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 URLs randomly from A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Lucida Sans"/>
                <a:ea typeface="Arial"/>
              </a:rPr>
              <a:t>Check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 if contained in B and vice versa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281" name="Group 4"/>
          <p:cNvGrpSpPr/>
          <p:nvPr/>
        </p:nvGrpSpPr>
        <p:grpSpPr>
          <a:xfrm>
            <a:off x="304920" y="1828800"/>
            <a:ext cx="3200400" cy="3484440"/>
            <a:chOff x="304920" y="1828800"/>
            <a:chExt cx="3200400" cy="3484440"/>
          </a:xfrm>
        </p:grpSpPr>
        <p:pic>
          <p:nvPicPr>
            <p:cNvPr id="282" name="Picture 5" descr="inter"/>
            <p:cNvPicPr/>
            <p:nvPr/>
          </p:nvPicPr>
          <p:blipFill>
            <a:blip r:embed="rId1"/>
            <a:stretch/>
          </p:blipFill>
          <p:spPr>
            <a:xfrm>
              <a:off x="304920" y="1828800"/>
              <a:ext cx="3200400" cy="348444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  <p:sp>
          <p:nvSpPr>
            <p:cNvPr id="283" name="Rectangle 6"/>
            <p:cNvSpPr/>
            <p:nvPr/>
          </p:nvSpPr>
          <p:spPr>
            <a:xfrm>
              <a:off x="1388520" y="3352680"/>
              <a:ext cx="473760" cy="228600"/>
            </a:xfrm>
            <a:prstGeom prst="rect">
              <a:avLst/>
            </a:prstGeom>
            <a:solidFill>
              <a:srgbClr val="f2f9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84" name="Text Box 7"/>
            <p:cNvSpPr/>
            <p:nvPr/>
          </p:nvSpPr>
          <p:spPr>
            <a:xfrm>
              <a:off x="1185480" y="3276720"/>
              <a:ext cx="88020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A</a:t>
              </a: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</a:t>
              </a:r>
              <a:r>
                <a:rPr b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285" name="Text Box 8"/>
          <p:cNvSpPr/>
          <p:nvPr/>
        </p:nvSpPr>
        <p:spPr>
          <a:xfrm>
            <a:off x="793800" y="6437160"/>
            <a:ext cx="781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Lucida Sans"/>
                <a:ea typeface="Arial"/>
              </a:rPr>
              <a:t>  </a:t>
            </a:r>
            <a:r>
              <a:rPr b="1" lang="en-US" sz="2000" spc="-1" strike="noStrike">
                <a:solidFill>
                  <a:srgbClr val="0033cc"/>
                </a:solidFill>
                <a:latin typeface="Lucida Sans"/>
                <a:ea typeface="Arial"/>
              </a:rPr>
              <a:t>Each test involves:  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(i) Sampling URL  (ii) Checking URL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961920" y="912960"/>
            <a:ext cx="7220160" cy="534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  <a:ea typeface="MS PGothic"/>
              </a:rPr>
              <a:t>Relative Size from Overlap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Lucida Sans"/>
                <a:ea typeface="MS PGothic"/>
              </a:rPr>
              <a:t>Given two engines A and B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7" name="TextBox 4"/>
          <p:cNvSpPr/>
          <p:nvPr/>
        </p:nvSpPr>
        <p:spPr>
          <a:xfrm>
            <a:off x="7663680" y="-33120"/>
            <a:ext cx="101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  <a:ea typeface="Arial"/>
              </a:rPr>
              <a:t>Sec. 19.5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8" name="Rounded Rectangular Callout 11"/>
          <p:cNvSpPr/>
          <p:nvPr/>
        </p:nvSpPr>
        <p:spPr>
          <a:xfrm>
            <a:off x="5076720" y="3213000"/>
            <a:ext cx="1008000" cy="1079640"/>
          </a:xfrm>
          <a:prstGeom prst="wedgeRoundRectCallout">
            <a:avLst>
              <a:gd name="adj1" fmla="val 134851"/>
              <a:gd name="adj2" fmla="val -103023"/>
              <a:gd name="adj3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  <a:ea typeface="MS PGothic"/>
              </a:rPr>
              <a:t>Sampling URL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4000"/>
              </a:lnSpc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Ideal strategy: Generate a random URL and check for containment in each index.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14000"/>
              </a:lnSpc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Problem: </a:t>
            </a:r>
            <a:r>
              <a:rPr b="0" lang="en-US" sz="2600" spc="-1" strike="noStrike">
                <a:solidFill>
                  <a:srgbClr val="ff0000"/>
                </a:solidFill>
                <a:latin typeface="Lucida Sans"/>
              </a:rPr>
              <a:t>Random URLs are hard to find!  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14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Approach 1: Generate a random URL </a:t>
            </a:r>
            <a:r>
              <a:rPr b="1" lang="en-US" sz="2600" spc="-1" strike="noStrike" u="sng">
                <a:solidFill>
                  <a:srgbClr val="ff0000"/>
                </a:solidFill>
                <a:uFillTx/>
                <a:latin typeface="Lucida Sans"/>
              </a:rPr>
              <a:t>surely contained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in a given search engine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29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Approach 2: Random walks or random IP addresse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685800" y="1752120"/>
            <a:ext cx="7772400" cy="48769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" descr=""/>
          <p:cNvPicPr/>
          <p:nvPr/>
        </p:nvPicPr>
        <p:blipFill>
          <a:blip r:embed="rId2"/>
          <a:srcRect l="22732" t="20527" r="21940" b="14306"/>
          <a:stretch/>
        </p:blipFill>
        <p:spPr>
          <a:xfrm>
            <a:off x="127080" y="144360"/>
            <a:ext cx="8982000" cy="666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  <a:ea typeface="MS PGothic"/>
              </a:rPr>
              <a:t>#1: Random URL in SE via random queries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395280" y="1523520"/>
            <a:ext cx="87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5200" indent="-295200">
              <a:spcBef>
                <a:spcPts val="7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  <a:ea typeface="MS PGothic"/>
              </a:rPr>
              <a:t>Generate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Lucida Sans"/>
                <a:ea typeface="MS PGothic"/>
              </a:rPr>
              <a:t>random query</a:t>
            </a:r>
            <a:r>
              <a:rPr b="0" lang="en-US" sz="3200" spc="-1" strike="noStrike">
                <a:solidFill>
                  <a:srgbClr val="000000"/>
                </a:solidFill>
                <a:latin typeface="Lucida Sans"/>
                <a:ea typeface="MS PGothic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1" marL="685800" indent="-27612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  <a:ea typeface="MS PGothic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Lucida Sans"/>
                <a:ea typeface="MS PGothic"/>
              </a:rPr>
              <a:t>Lexicon: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  <a:ea typeface="MS PGothic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MS PGothic"/>
              </a:rPr>
              <a:t>400,000+ words from a web crawl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685800" indent="-276120"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"/>
                <a:ea typeface="MS PGothic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Lucida Sans"/>
                <a:ea typeface="MS PGothic"/>
              </a:rPr>
              <a:t>Conjunctive Queries: 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  <a:ea typeface="MS PGothic"/>
              </a:rPr>
              <a:t>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Lucida Sans"/>
                <a:ea typeface="MS PGothic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  <a:ea typeface="MS PGothic"/>
              </a:rPr>
              <a:t> and 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Lucida Sans"/>
                <a:ea typeface="MS PGothic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2" marL="10857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Lucida Sans"/>
                <a:ea typeface="MS PGothic"/>
              </a:rPr>
              <a:t>e.g.,  vocalists AND  rsi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295200" indent="-295200">
              <a:spcBef>
                <a:spcPts val="180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MS PGothic"/>
              </a:rPr>
              <a:t>Get 100 result URLs from engine A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295200" indent="-29520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MS PGothic"/>
              </a:rPr>
              <a:t>Choose a random URL as the candidate to </a:t>
            </a:r>
            <a:r>
              <a:rPr b="1" lang="en-US" sz="2600" spc="-1" strike="noStrike">
                <a:solidFill>
                  <a:srgbClr val="ff0000"/>
                </a:solidFill>
                <a:latin typeface="Lucida Sans"/>
                <a:ea typeface="MS PGothic"/>
              </a:rPr>
              <a:t>check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MS PGothic"/>
              </a:rPr>
              <a:t> for presence in search engine B </a:t>
            </a:r>
            <a:r>
              <a:rPr b="1" lang="en-US" sz="2600" spc="-1" strike="noStrike">
                <a:solidFill>
                  <a:srgbClr val="ff0000"/>
                </a:solidFill>
                <a:latin typeface="Lucida Sans"/>
                <a:ea typeface="MS PGothic"/>
              </a:rPr>
              <a:t>(next slide)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295200" indent="-29520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MS PGothic"/>
              </a:rPr>
              <a:t>This induces a probability weight W(p) for each page. 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2952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295200" indent="-29520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00000"/>
                </a:solidFill>
                <a:latin typeface="Lucida Sans"/>
                <a:ea typeface="MS PGothic"/>
              </a:rPr>
              <a:t>Conjecture:  W(SE</a:t>
            </a:r>
            <a:r>
              <a:rPr b="1" lang="en-US" sz="3600" spc="-1" strike="noStrike" baseline="-25000">
                <a:solidFill>
                  <a:srgbClr val="c00000"/>
                </a:solidFill>
                <a:latin typeface="Lucida Sans"/>
                <a:ea typeface="MS PGothic"/>
              </a:rPr>
              <a:t>A</a:t>
            </a:r>
            <a:r>
              <a:rPr b="1" lang="en-US" sz="2600" spc="-1" strike="noStrike">
                <a:solidFill>
                  <a:srgbClr val="c00000"/>
                </a:solidFill>
                <a:latin typeface="Lucida Sans"/>
                <a:ea typeface="MS PGothic"/>
              </a:rPr>
              <a:t>) / W(SE</a:t>
            </a:r>
            <a:r>
              <a:rPr b="1" lang="en-US" sz="3600" spc="-1" strike="noStrike" baseline="-25000">
                <a:solidFill>
                  <a:srgbClr val="c00000"/>
                </a:solidFill>
                <a:latin typeface="Lucida Sans"/>
                <a:ea typeface="MS PGothic"/>
              </a:rPr>
              <a:t>B</a:t>
            </a:r>
            <a:r>
              <a:rPr b="1" lang="en-US" sz="2600" spc="-1" strike="noStrike">
                <a:solidFill>
                  <a:srgbClr val="c00000"/>
                </a:solidFill>
                <a:latin typeface="Lucida Sans"/>
                <a:ea typeface="MS PGothic"/>
              </a:rPr>
              <a:t>) ~ |SE</a:t>
            </a:r>
            <a:r>
              <a:rPr b="1" lang="en-US" sz="3600" spc="-1" strike="noStrike" baseline="-25000">
                <a:solidFill>
                  <a:srgbClr val="c00000"/>
                </a:solidFill>
                <a:latin typeface="Lucida Sans"/>
                <a:ea typeface="MS PGothic"/>
              </a:rPr>
              <a:t>A</a:t>
            </a:r>
            <a:r>
              <a:rPr b="1" lang="en-US" sz="2600" spc="-1" strike="noStrike">
                <a:solidFill>
                  <a:srgbClr val="c00000"/>
                </a:solidFill>
                <a:latin typeface="Lucida Sans"/>
                <a:ea typeface="MS PGothic"/>
              </a:rPr>
              <a:t>| / |SE</a:t>
            </a:r>
            <a:r>
              <a:rPr b="1" lang="en-US" sz="3600" spc="-1" strike="noStrike" baseline="-25000">
                <a:solidFill>
                  <a:srgbClr val="c00000"/>
                </a:solidFill>
                <a:latin typeface="Lucida Sans"/>
                <a:ea typeface="MS PGothic"/>
              </a:rPr>
              <a:t>B</a:t>
            </a:r>
            <a:r>
              <a:rPr b="1" lang="en-US" sz="2600" spc="-1" strike="noStrike">
                <a:solidFill>
                  <a:srgbClr val="c00000"/>
                </a:solidFill>
                <a:latin typeface="Lucida Sans"/>
                <a:ea typeface="MS PGothic"/>
              </a:rPr>
              <a:t>|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68000" y="733320"/>
            <a:ext cx="7219800" cy="534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  <a:ea typeface="MS PGothic"/>
              </a:rPr>
              <a:t>URL checking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44240" y="1672920"/>
            <a:ext cx="8088120" cy="495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MS PGothic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MS PGothic"/>
              </a:rPr>
              <a:t>Download D at address URL. 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MS PGothic"/>
              </a:rPr>
              <a:t>Get list of words.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MS PGothic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MS PGothic"/>
              </a:rPr>
              <a:t>Use 8 low frequency words as AND query to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  <a:ea typeface="MS PGothic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MS PGothic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MS PGothic"/>
              </a:rPr>
              <a:t>Check if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  <a:ea typeface="MS PGothic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MS PGothic"/>
              </a:rPr>
              <a:t> is present in result set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5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85000"/>
              </a:lnSpc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MS PGothic"/>
              </a:rPr>
              <a:t>Problems: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MS PGothic"/>
              </a:rPr>
              <a:t>Near duplicate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MS PGothic"/>
              </a:rPr>
              <a:t>Engine time-out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MS PGothic"/>
              </a:rPr>
              <a:t>Is 8-word query good enough?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066680" y="7596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  <a:ea typeface="MS PGothic"/>
              </a:rPr>
              <a:t>Advantages &amp; disadvantages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52280" y="1523880"/>
            <a:ext cx="87631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MS PGothic"/>
              </a:rPr>
              <a:t>Statistically sound under the induced weight.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MS PGothic"/>
              </a:rPr>
              <a:t>Biases induced by random query 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MS PGothic"/>
              </a:rPr>
              <a:t>Query bias: 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MS PGothic"/>
              </a:rPr>
              <a:t>Favors content-rich pages in the language(s) of the lexicon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MS PGothic"/>
              </a:rPr>
              <a:t>Ranking bias [</a:t>
            </a:r>
            <a:r>
              <a:rPr b="0" i="1" lang="en-US" sz="2000" spc="-1" strike="noStrike">
                <a:solidFill>
                  <a:srgbClr val="000000"/>
                </a:solidFill>
                <a:latin typeface="Lucida Sans"/>
                <a:ea typeface="MS PGothic"/>
              </a:rPr>
              <a:t>Solution: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MS PGothic"/>
              </a:rPr>
              <a:t> Use conjunctive queries &amp; fetch all]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MS PGothic"/>
              </a:rPr>
              <a:t>Query restriction bias:</a:t>
            </a: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MS PGothic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MS PGothic"/>
              </a:rPr>
              <a:t>engine might not deal properly with 8 words conjunctive query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MS PGothic"/>
              </a:rPr>
              <a:t>Malicious bias: 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MS PGothic"/>
              </a:rPr>
              <a:t>Sabotage by engine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MS PGothic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MS PGothic"/>
              </a:rPr>
              <a:t>Operational Problems: 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MS PGothic"/>
              </a:rPr>
              <a:t>Time-outs, failures, engine inconsistencies, index modification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  <a:ea typeface="MS PGothic"/>
              </a:rPr>
              <a:t>#2: Random IP addresse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MS PGothic"/>
              </a:rPr>
              <a:t>Find a web server at the given IP addres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MS PGothic"/>
              </a:rPr>
              <a:t>If there’s on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MS PGothic"/>
              </a:rPr>
              <a:t>Collect all pages from server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MS PGothic"/>
              </a:rPr>
              <a:t>From this, choose a page at random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  <a:ea typeface="MS PGothic"/>
              </a:rPr>
              <a:t>Advantages &amp; disadvantage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228600" y="164736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5000"/>
              </a:lnSpc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MS PGothic"/>
              </a:rPr>
              <a:t>Advantage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13160" indent="-27432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MS PGothic"/>
              </a:rPr>
              <a:t>Clean statistic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13160" indent="-27432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MS PGothic"/>
              </a:rPr>
              <a:t>Independent of crawling strategie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5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-329040">
              <a:lnSpc>
                <a:spcPct val="85000"/>
              </a:lnSpc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MS PGothic"/>
              </a:rPr>
              <a:t>Disadvantage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13160" indent="-27432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MS PGothic"/>
              </a:rPr>
              <a:t>Many hosts might share one IP, or not accept request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13160" indent="-27432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MS PGothic"/>
              </a:rPr>
              <a:t>No guarantee all pages are linked to root page, and thus can be collected. 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13160" indent="-27432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MS PGothic"/>
              </a:rPr>
              <a:t>Power law for # pages/hosts generates bias towards sites with few pages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  <a:ea typeface="MS PGothic"/>
              </a:rPr>
              <a:t>Conclusion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MS PGothic"/>
              </a:rPr>
              <a:t>No sampling solution is perfect. 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MS PGothic"/>
              </a:rPr>
              <a:t>Lots of new ideas ...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MS PGothic"/>
              </a:rPr>
              <a:t>....but the problem is getting harder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MS PGothic"/>
              </a:rPr>
              <a:t>Quantitative studies are fascinating and a good research problem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transition spd="med">
    <p:cover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The web-graph: storage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Lucida Sans"/>
              </a:rPr>
              <a:t>Paolo Ferragina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Dipartimento di Informatica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Università di Pisa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5" name="Rounded Rectangle 3"/>
          <p:cNvSpPr/>
          <p:nvPr/>
        </p:nvSpPr>
        <p:spPr>
          <a:xfrm>
            <a:off x="5148360" y="6308640"/>
            <a:ext cx="3995640" cy="54936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entury Gothic"/>
                <a:ea typeface="Arial"/>
              </a:rPr>
              <a:t>Reading 20.4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Lucida Sans"/>
              </a:rPr>
              <a:t>Definition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4000" y="1752120"/>
            <a:ext cx="7918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47560" indent="0">
              <a:spcBef>
                <a:spcPts val="601"/>
              </a:spcBef>
              <a:buNone/>
              <a:tabLst>
                <a:tab algn="l" pos="0"/>
                <a:tab algn="l" pos="90360"/>
                <a:tab algn="l" pos="1004760"/>
                <a:tab algn="l" pos="1919160"/>
                <a:tab algn="l" pos="2833560"/>
                <a:tab algn="l" pos="3747960"/>
                <a:tab algn="l" pos="4662360"/>
                <a:tab algn="l" pos="5576760"/>
                <a:tab algn="l" pos="6491160"/>
                <a:tab algn="l" pos="7405560"/>
                <a:tab algn="l" pos="8319960"/>
                <a:tab algn="l" pos="9234360"/>
                <a:tab algn="l" pos="101487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Sans"/>
              </a:rPr>
              <a:t>Directed graph G = (V,E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2" marL="1295280" indent="-380880">
              <a:spcBef>
                <a:spcPts val="49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0360"/>
                <a:tab algn="l" pos="1004760"/>
                <a:tab algn="l" pos="1919160"/>
                <a:tab algn="l" pos="2833560"/>
                <a:tab algn="l" pos="3747960"/>
                <a:tab algn="l" pos="4662360"/>
                <a:tab algn="l" pos="5576760"/>
                <a:tab algn="l" pos="6491160"/>
                <a:tab algn="l" pos="7405560"/>
                <a:tab algn="l" pos="8319960"/>
                <a:tab algn="l" pos="9234360"/>
                <a:tab algn="l" pos="101487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Lucida Sans"/>
              </a:rPr>
              <a:t>V = URLs, E = (u,v) if u has an hyperlink to </a:t>
            </a:r>
            <a:r>
              <a:rPr b="0" i="1" lang="en-GB" sz="2000" spc="-1" strike="noStrike">
                <a:solidFill>
                  <a:srgbClr val="000000"/>
                </a:solidFill>
                <a:latin typeface="Lucida Sans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54756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0360"/>
                <a:tab algn="l" pos="1004760"/>
                <a:tab algn="l" pos="1919160"/>
                <a:tab algn="l" pos="2833560"/>
                <a:tab algn="l" pos="3747960"/>
                <a:tab algn="l" pos="4662360"/>
                <a:tab algn="l" pos="5576760"/>
                <a:tab algn="l" pos="6491160"/>
                <a:tab algn="l" pos="7405560"/>
                <a:tab algn="l" pos="8319960"/>
                <a:tab algn="l" pos="9234360"/>
                <a:tab algn="l" pos="101487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Sans"/>
              </a:rPr>
              <a:t>Isolated URLs are ignored (no IN &amp; no OUT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547560" indent="0">
              <a:spcBef>
                <a:spcPts val="601"/>
              </a:spcBef>
              <a:buNone/>
              <a:tabLst>
                <a:tab algn="l" pos="0"/>
                <a:tab algn="l" pos="90360"/>
                <a:tab algn="l" pos="1004760"/>
                <a:tab algn="l" pos="1919160"/>
                <a:tab algn="l" pos="2833560"/>
                <a:tab algn="l" pos="3747960"/>
                <a:tab algn="l" pos="4662360"/>
                <a:tab algn="l" pos="5576760"/>
                <a:tab algn="l" pos="6491160"/>
                <a:tab algn="l" pos="7405560"/>
                <a:tab algn="l" pos="8319960"/>
                <a:tab algn="l" pos="9234360"/>
                <a:tab algn="l" pos="101487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547560" indent="0">
              <a:spcBef>
                <a:spcPts val="601"/>
              </a:spcBef>
              <a:buNone/>
              <a:tabLst>
                <a:tab algn="l" pos="0"/>
                <a:tab algn="l" pos="90360"/>
                <a:tab algn="l" pos="1004760"/>
                <a:tab algn="l" pos="1919160"/>
                <a:tab algn="l" pos="2833560"/>
                <a:tab algn="l" pos="3747960"/>
                <a:tab algn="l" pos="4662360"/>
                <a:tab algn="l" pos="5576760"/>
                <a:tab algn="l" pos="6491160"/>
                <a:tab algn="l" pos="7405560"/>
                <a:tab algn="l" pos="8319960"/>
                <a:tab algn="l" pos="9234360"/>
                <a:tab algn="l" pos="101487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Lucida Sans"/>
              </a:rPr>
              <a:t>Three key properties: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547560" indent="-457200" algn="just">
              <a:lnSpc>
                <a:spcPct val="116000"/>
              </a:lnSpc>
              <a:spcBef>
                <a:spcPts val="788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0360"/>
                <a:tab algn="l" pos="1004760"/>
                <a:tab algn="l" pos="1919160"/>
                <a:tab algn="l" pos="2833560"/>
                <a:tab algn="l" pos="3747960"/>
                <a:tab algn="l" pos="4662360"/>
                <a:tab algn="l" pos="5576760"/>
                <a:tab algn="l" pos="6491160"/>
                <a:tab algn="l" pos="7405560"/>
                <a:tab algn="l" pos="8319960"/>
                <a:tab algn="l" pos="9234360"/>
                <a:tab algn="l" pos="101487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ff"/>
                </a:solidFill>
                <a:latin typeface="Arial"/>
              </a:rPr>
              <a:t>Skewed distribution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: Pb that a node has x links is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/x</a:t>
            </a:r>
            <a:r>
              <a:rPr b="0" lang="en-GB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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Tahoma"/>
              </a:rPr>
              <a:t>≈ 2.1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Lucida Sans"/>
              </a:rPr>
              <a:t>The In-degree distribution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309" name="Picture 3" descr="indeg_altav"/>
          <p:cNvPicPr/>
          <p:nvPr/>
        </p:nvPicPr>
        <p:blipFill>
          <a:blip r:embed="rId1"/>
          <a:stretch/>
        </p:blipFill>
        <p:spPr>
          <a:xfrm>
            <a:off x="468360" y="1844640"/>
            <a:ext cx="3598920" cy="270036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4" descr="indeg_webbase"/>
          <p:cNvPicPr/>
          <p:nvPr/>
        </p:nvPicPr>
        <p:blipFill>
          <a:blip r:embed="rId2"/>
          <a:stretch/>
        </p:blipFill>
        <p:spPr>
          <a:xfrm>
            <a:off x="4284720" y="1844640"/>
            <a:ext cx="4248000" cy="2691000"/>
          </a:xfrm>
          <a:prstGeom prst="rect">
            <a:avLst/>
          </a:prstGeom>
          <a:ln w="0">
            <a:noFill/>
          </a:ln>
        </p:spPr>
      </p:pic>
      <p:sp>
        <p:nvSpPr>
          <p:cNvPr id="311" name="Rectangle 5"/>
          <p:cNvSpPr/>
          <p:nvPr/>
        </p:nvSpPr>
        <p:spPr>
          <a:xfrm>
            <a:off x="1116000" y="4581360"/>
            <a:ext cx="3087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Altavista crawl, 1999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2" name="Rectangle 6"/>
          <p:cNvSpPr/>
          <p:nvPr/>
        </p:nvSpPr>
        <p:spPr>
          <a:xfrm>
            <a:off x="5290200" y="4581360"/>
            <a:ext cx="2418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WebBase Crawl 2001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3" name="Rectangle 7"/>
          <p:cNvSpPr/>
          <p:nvPr/>
        </p:nvSpPr>
        <p:spPr>
          <a:xfrm>
            <a:off x="673920" y="5391000"/>
            <a:ext cx="4275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Indegree follows power law distribution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4" name="Object 8"/>
              <p:cNvSpPr txBox="1"/>
              <p:nvPr/>
            </p:nvSpPr>
            <p:spPr>
              <a:xfrm>
                <a:off x="5194440" y="5300640"/>
                <a:ext cx="2935080" cy="78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r</m:t>
                    </m:r>
                    <m:r>
                      <m:t xml:space="preserve">[</m:t>
                    </m:r>
                    <m:r>
                      <m:rPr>
                        <m:lit/>
                        <m:nor/>
                      </m:rPr>
                      <m:t xml:space="preserve">in-degree</m:t>
                    </m:r>
                    <m:r>
                      <m:t xml:space="preserve">(</m:t>
                    </m:r>
                    <m:r>
                      <m:t xml:space="preserve">u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k</m:t>
                    </m:r>
                    <m:r>
                      <m:t xml:space="preserve">]</m:t>
                    </m:r>
                    <m:r>
                      <m:t xml:space="preserve">∝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k</m:t>
                            </m:r>
                          </m:e>
                          <m:sup>
                            <m:r>
                              <m:t xml:space="preserve">α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5" name="Object 9"/>
              <p:cNvSpPr txBox="1"/>
              <p:nvPr/>
            </p:nvSpPr>
            <p:spPr>
              <a:xfrm>
                <a:off x="6350040" y="5972040"/>
                <a:ext cx="833400" cy="3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16" name="Rectangle 9"/>
          <p:cNvSpPr/>
          <p:nvPr/>
        </p:nvSpPr>
        <p:spPr>
          <a:xfrm>
            <a:off x="720360" y="6413400"/>
            <a:ext cx="633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Lucida Sans"/>
                <a:ea typeface="Arial"/>
              </a:rPr>
              <a:t>This is true also for: out-degree, size components,..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Lucida Sans"/>
              </a:rPr>
              <a:t>Definition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4000" y="1752120"/>
            <a:ext cx="7918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47560" indent="0">
              <a:spcBef>
                <a:spcPts val="601"/>
              </a:spcBef>
              <a:buNone/>
              <a:tabLst>
                <a:tab algn="l" pos="0"/>
                <a:tab algn="l" pos="90360"/>
                <a:tab algn="l" pos="1004760"/>
                <a:tab algn="l" pos="1919160"/>
                <a:tab algn="l" pos="2833560"/>
                <a:tab algn="l" pos="3747960"/>
                <a:tab algn="l" pos="4662360"/>
                <a:tab algn="l" pos="5576760"/>
                <a:tab algn="l" pos="6491160"/>
                <a:tab algn="l" pos="7405560"/>
                <a:tab algn="l" pos="8319960"/>
                <a:tab algn="l" pos="9234360"/>
                <a:tab algn="l" pos="101487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Sans"/>
              </a:rPr>
              <a:t>Directed graph G = (V,E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2" marL="1295280" indent="-380880">
              <a:spcBef>
                <a:spcPts val="49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0360"/>
                <a:tab algn="l" pos="1004760"/>
                <a:tab algn="l" pos="1919160"/>
                <a:tab algn="l" pos="2833560"/>
                <a:tab algn="l" pos="3747960"/>
                <a:tab algn="l" pos="4662360"/>
                <a:tab algn="l" pos="5576760"/>
                <a:tab algn="l" pos="6491160"/>
                <a:tab algn="l" pos="7405560"/>
                <a:tab algn="l" pos="8319960"/>
                <a:tab algn="l" pos="9234360"/>
                <a:tab algn="l" pos="101487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Lucida Sans"/>
              </a:rPr>
              <a:t>V = URLs, E = (u,v) if u has an hyperlink to </a:t>
            </a:r>
            <a:r>
              <a:rPr b="0" i="1" lang="en-GB" sz="2000" spc="-1" strike="noStrike">
                <a:solidFill>
                  <a:srgbClr val="000000"/>
                </a:solidFill>
                <a:latin typeface="Lucida Sans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547560" indent="0">
              <a:spcBef>
                <a:spcPts val="601"/>
              </a:spcBef>
              <a:buNone/>
              <a:tabLst>
                <a:tab algn="l" pos="0"/>
                <a:tab algn="l" pos="90360"/>
                <a:tab algn="l" pos="1004760"/>
                <a:tab algn="l" pos="1919160"/>
                <a:tab algn="l" pos="2833560"/>
                <a:tab algn="l" pos="3747960"/>
                <a:tab algn="l" pos="4662360"/>
                <a:tab algn="l" pos="5576760"/>
                <a:tab algn="l" pos="6491160"/>
                <a:tab algn="l" pos="7405560"/>
                <a:tab algn="l" pos="8319960"/>
                <a:tab algn="l" pos="9234360"/>
                <a:tab algn="l" pos="101487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Sans"/>
              </a:rPr>
              <a:t>Isolated URLs are ignored (no IN, no OUT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547560" indent="0">
              <a:spcBef>
                <a:spcPts val="601"/>
              </a:spcBef>
              <a:buNone/>
              <a:tabLst>
                <a:tab algn="l" pos="0"/>
                <a:tab algn="l" pos="90360"/>
                <a:tab algn="l" pos="1004760"/>
                <a:tab algn="l" pos="1919160"/>
                <a:tab algn="l" pos="2833560"/>
                <a:tab algn="l" pos="3747960"/>
                <a:tab algn="l" pos="4662360"/>
                <a:tab algn="l" pos="5576760"/>
                <a:tab algn="l" pos="6491160"/>
                <a:tab algn="l" pos="7405560"/>
                <a:tab algn="l" pos="8319960"/>
                <a:tab algn="l" pos="9234360"/>
                <a:tab algn="l" pos="101487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547560" indent="0">
              <a:spcBef>
                <a:spcPts val="601"/>
              </a:spcBef>
              <a:buNone/>
              <a:tabLst>
                <a:tab algn="l" pos="0"/>
                <a:tab algn="l" pos="90360"/>
                <a:tab algn="l" pos="1004760"/>
                <a:tab algn="l" pos="1919160"/>
                <a:tab algn="l" pos="2833560"/>
                <a:tab algn="l" pos="3747960"/>
                <a:tab algn="l" pos="4662360"/>
                <a:tab algn="l" pos="5576760"/>
                <a:tab algn="l" pos="6491160"/>
                <a:tab algn="l" pos="7405560"/>
                <a:tab algn="l" pos="8319960"/>
                <a:tab algn="l" pos="9234360"/>
                <a:tab algn="l" pos="101487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Lucida Sans"/>
              </a:rPr>
              <a:t>Three key properties: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547560" indent="-457200" algn="just">
              <a:lnSpc>
                <a:spcPct val="116000"/>
              </a:lnSpc>
              <a:spcBef>
                <a:spcPts val="788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0360"/>
                <a:tab algn="l" pos="1004760"/>
                <a:tab algn="l" pos="1919160"/>
                <a:tab algn="l" pos="2833560"/>
                <a:tab algn="l" pos="3747960"/>
                <a:tab algn="l" pos="4662360"/>
                <a:tab algn="l" pos="5576760"/>
                <a:tab algn="l" pos="6491160"/>
                <a:tab algn="l" pos="7405560"/>
                <a:tab algn="l" pos="8319960"/>
                <a:tab algn="l" pos="9234360"/>
                <a:tab algn="l" pos="101487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ff"/>
                </a:solidFill>
                <a:latin typeface="Arial"/>
              </a:rPr>
              <a:t>Skewed distribution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: Pb that a node has x links is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/x</a:t>
            </a:r>
            <a:r>
              <a:rPr b="0" lang="en-GB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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Tahoma"/>
              </a:rPr>
              <a:t>≈ 2.1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547560" indent="-457200" algn="just">
              <a:lnSpc>
                <a:spcPct val="126000"/>
              </a:lnSpc>
              <a:spcBef>
                <a:spcPts val="788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0360"/>
                <a:tab algn="l" pos="1004760"/>
                <a:tab algn="l" pos="1919160"/>
                <a:tab algn="l" pos="2833560"/>
                <a:tab algn="l" pos="3747960"/>
                <a:tab algn="l" pos="4662360"/>
                <a:tab algn="l" pos="5576760"/>
                <a:tab algn="l" pos="6491160"/>
                <a:tab algn="l" pos="7405560"/>
                <a:tab algn="l" pos="8319960"/>
                <a:tab algn="l" pos="9234360"/>
                <a:tab algn="l" pos="101487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ff"/>
                </a:solidFill>
                <a:latin typeface="Arial"/>
              </a:rPr>
              <a:t>Locality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: usually most of the hyperlinks point to other URLs on the same host (about 80%)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547560" indent="-457200" algn="just">
              <a:lnSpc>
                <a:spcPct val="126000"/>
              </a:lnSpc>
              <a:spcBef>
                <a:spcPts val="788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0360"/>
                <a:tab algn="l" pos="1004760"/>
                <a:tab algn="l" pos="1919160"/>
                <a:tab algn="l" pos="2833560"/>
                <a:tab algn="l" pos="3747960"/>
                <a:tab algn="l" pos="4662360"/>
                <a:tab algn="l" pos="5576760"/>
                <a:tab algn="l" pos="6491160"/>
                <a:tab algn="l" pos="7405560"/>
                <a:tab algn="l" pos="8319960"/>
                <a:tab algn="l" pos="9234360"/>
                <a:tab algn="l" pos="101487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ff"/>
                </a:solidFill>
                <a:latin typeface="Arial"/>
              </a:rPr>
              <a:t>Similarity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: pages close in lexicographic order tend to share many outgoing list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1" dur="500"/>
                                        <p:tgtEl>
                                          <p:spTgt spid="3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685800" y="1752120"/>
            <a:ext cx="7772400" cy="48769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2" descr=""/>
          <p:cNvPicPr/>
          <p:nvPr/>
        </p:nvPicPr>
        <p:blipFill>
          <a:blip r:embed="rId2"/>
          <a:srcRect l="14513" t="20527" r="14272" b="3342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A Picture of the Web Graph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graphicFrame>
        <p:nvGraphicFramePr>
          <p:cNvPr id="320" name="Object 3"/>
          <p:cNvGraphicFramePr/>
          <p:nvPr/>
        </p:nvGraphicFramePr>
        <p:xfrm>
          <a:off x="971640" y="1844640"/>
          <a:ext cx="5545080" cy="339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1844640"/>
                    <a:ext cx="5545080" cy="339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2" name="AutoShape 4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3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4" name="Text Box 6"/>
          <p:cNvSpPr/>
          <p:nvPr/>
        </p:nvSpPr>
        <p:spPr>
          <a:xfrm>
            <a:off x="2484360" y="2565360"/>
            <a:ext cx="403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5" name="Text Box 7"/>
          <p:cNvSpPr/>
          <p:nvPr/>
        </p:nvSpPr>
        <p:spPr>
          <a:xfrm>
            <a:off x="971640" y="342900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6" name="Text Box 8"/>
          <p:cNvSpPr/>
          <p:nvPr/>
        </p:nvSpPr>
        <p:spPr>
          <a:xfrm>
            <a:off x="5076720" y="191628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7" name="Text Box 13"/>
          <p:cNvSpPr/>
          <p:nvPr/>
        </p:nvSpPr>
        <p:spPr>
          <a:xfrm>
            <a:off x="4140360" y="5661000"/>
            <a:ext cx="43923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1 millions of pages, 150millions of links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URL-sorting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329" name="Picture 3" descr="A-spy"/>
          <p:cNvPicPr/>
          <p:nvPr/>
        </p:nvPicPr>
        <p:blipFill>
          <a:blip r:embed="rId1"/>
          <a:stretch/>
        </p:blipFill>
        <p:spPr>
          <a:xfrm>
            <a:off x="1720800" y="1752480"/>
            <a:ext cx="5702400" cy="4876920"/>
          </a:xfrm>
          <a:prstGeom prst="rect">
            <a:avLst/>
          </a:prstGeom>
          <a:ln w="0">
            <a:noFill/>
          </a:ln>
        </p:spPr>
      </p:pic>
      <p:sp>
        <p:nvSpPr>
          <p:cNvPr id="330" name="Text Box 4"/>
          <p:cNvSpPr/>
          <p:nvPr/>
        </p:nvSpPr>
        <p:spPr>
          <a:xfrm>
            <a:off x="7737840" y="3270240"/>
            <a:ext cx="123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Stanford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1" name="Freeform 5"/>
          <p:cNvSpPr/>
          <p:nvPr/>
        </p:nvSpPr>
        <p:spPr>
          <a:xfrm>
            <a:off x="6981840" y="3676680"/>
            <a:ext cx="1085760" cy="819000"/>
          </a:xfrm>
          <a:custGeom>
            <a:avLst/>
            <a:gdLst>
              <a:gd name="textAreaLeft" fmla="*/ 0 w 1085760"/>
              <a:gd name="textAreaRight" fmla="*/ 1086120 w 1085760"/>
              <a:gd name="textAreaTop" fmla="*/ 0 h 819000"/>
              <a:gd name="textAreaBottom" fmla="*/ 819360 h 819000"/>
            </a:gdLst>
            <a:ahLst/>
            <a:rect l="textAreaLeft" t="textAreaTop" r="textAreaRight" b="textAreaBottom"/>
            <a:pathLst>
              <a:path w="684" h="516">
                <a:moveTo>
                  <a:pt x="684" y="0"/>
                </a:moveTo>
                <a:cubicBezTo>
                  <a:pt x="476" y="130"/>
                  <a:pt x="268" y="261"/>
                  <a:pt x="210" y="342"/>
                </a:cubicBezTo>
                <a:cubicBezTo>
                  <a:pt x="152" y="423"/>
                  <a:pt x="371" y="457"/>
                  <a:pt x="336" y="486"/>
                </a:cubicBezTo>
                <a:cubicBezTo>
                  <a:pt x="301" y="515"/>
                  <a:pt x="60" y="512"/>
                  <a:pt x="0" y="516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2" name="Text Box 6"/>
          <p:cNvSpPr/>
          <p:nvPr/>
        </p:nvSpPr>
        <p:spPr>
          <a:xfrm>
            <a:off x="0" y="228600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Berkeley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3" name="Freeform 7"/>
          <p:cNvSpPr/>
          <p:nvPr/>
        </p:nvSpPr>
        <p:spPr>
          <a:xfrm>
            <a:off x="1647720" y="2066760"/>
            <a:ext cx="781200" cy="466920"/>
          </a:xfrm>
          <a:custGeom>
            <a:avLst/>
            <a:gdLst>
              <a:gd name="textAreaLeft" fmla="*/ 0 w 781200"/>
              <a:gd name="textAreaRight" fmla="*/ 781560 w 781200"/>
              <a:gd name="textAreaTop" fmla="*/ 0 h 466920"/>
              <a:gd name="textAreaBottom" fmla="*/ 467280 h 466920"/>
            </a:gdLst>
            <a:ahLst/>
            <a:rect l="textAreaLeft" t="textAreaTop" r="textAreaRight" b="textAreaBottom"/>
            <a:pathLst>
              <a:path w="492" h="294">
                <a:moveTo>
                  <a:pt x="0" y="294"/>
                </a:moveTo>
                <a:cubicBezTo>
                  <a:pt x="109" y="271"/>
                  <a:pt x="219" y="249"/>
                  <a:pt x="228" y="210"/>
                </a:cubicBezTo>
                <a:cubicBezTo>
                  <a:pt x="237" y="171"/>
                  <a:pt x="10" y="95"/>
                  <a:pt x="54" y="60"/>
                </a:cubicBezTo>
                <a:cubicBezTo>
                  <a:pt x="98" y="25"/>
                  <a:pt x="295" y="12"/>
                  <a:pt x="492" y="0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Lucida Sans"/>
              </a:rPr>
              <a:t>Front-compression of URLs and adjacent storage of ids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335" name="Picture 3" descr=""/>
          <p:cNvPicPr/>
          <p:nvPr/>
        </p:nvPicPr>
        <p:blipFill>
          <a:blip r:embed="rId1"/>
          <a:stretch/>
        </p:blipFill>
        <p:spPr>
          <a:xfrm>
            <a:off x="2050920" y="1628640"/>
            <a:ext cx="5329440" cy="237672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4" descr=""/>
          <p:cNvPicPr/>
          <p:nvPr/>
        </p:nvPicPr>
        <p:blipFill>
          <a:blip r:embed="rId2"/>
          <a:stretch/>
        </p:blipFill>
        <p:spPr>
          <a:xfrm>
            <a:off x="1042920" y="4165560"/>
            <a:ext cx="3260880" cy="2654280"/>
          </a:xfrm>
          <a:prstGeom prst="rect">
            <a:avLst/>
          </a:prstGeom>
          <a:ln w="0">
            <a:noFill/>
          </a:ln>
        </p:spPr>
      </p:pic>
      <p:sp>
        <p:nvSpPr>
          <p:cNvPr id="337" name="Oval 6"/>
          <p:cNvSpPr/>
          <p:nvPr/>
        </p:nvSpPr>
        <p:spPr>
          <a:xfrm>
            <a:off x="3419640" y="4724280"/>
            <a:ext cx="460080" cy="360360"/>
          </a:xfrm>
          <a:prstGeom prst="ellipse">
            <a:avLst/>
          </a:prstGeom>
          <a:noFill/>
          <a:ln w="360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8" name="Oval 7"/>
          <p:cNvSpPr/>
          <p:nvPr/>
        </p:nvSpPr>
        <p:spPr>
          <a:xfrm>
            <a:off x="1187280" y="4959360"/>
            <a:ext cx="460440" cy="468360"/>
          </a:xfrm>
          <a:prstGeom prst="ellipse">
            <a:avLst/>
          </a:prstGeom>
          <a:noFill/>
          <a:ln w="360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9" name="Oval 12"/>
          <p:cNvSpPr/>
          <p:nvPr/>
        </p:nvSpPr>
        <p:spPr>
          <a:xfrm>
            <a:off x="3348000" y="5229360"/>
            <a:ext cx="515880" cy="468000"/>
          </a:xfrm>
          <a:prstGeom prst="ellipse">
            <a:avLst/>
          </a:prstGeom>
          <a:noFill/>
          <a:ln w="36000">
            <a:solidFill>
              <a:srgbClr val="2300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0" name="Text Box 13"/>
          <p:cNvSpPr/>
          <p:nvPr/>
        </p:nvSpPr>
        <p:spPr>
          <a:xfrm>
            <a:off x="9631440" y="8310960"/>
            <a:ext cx="542880" cy="8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6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" spc="-1" strike="noStrike">
                <a:solidFill>
                  <a:srgbClr val="0000ff"/>
                </a:solidFill>
                <a:latin typeface="Arial"/>
                <a:ea typeface="Arial"/>
              </a:rPr>
              <a:t>.</a:t>
            </a:r>
            <a:endParaRPr b="0" lang="en-US" sz="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1" name="Rectangle 13"/>
          <p:cNvSpPr/>
          <p:nvPr/>
        </p:nvSpPr>
        <p:spPr>
          <a:xfrm>
            <a:off x="5796000" y="1628640"/>
            <a:ext cx="1440000" cy="144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Lucida Sans"/>
                <a:ea typeface="Arial"/>
              </a:rPr>
              <a:t>Front-coding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342" name="Picture 7" descr=""/>
          <p:cNvPicPr/>
          <p:nvPr/>
        </p:nvPicPr>
        <p:blipFill>
          <a:blip r:embed="rId3"/>
          <a:stretch/>
        </p:blipFill>
        <p:spPr>
          <a:xfrm>
            <a:off x="5265720" y="5253120"/>
            <a:ext cx="2906640" cy="984240"/>
          </a:xfrm>
          <a:prstGeom prst="rect">
            <a:avLst/>
          </a:prstGeom>
          <a:ln w="0">
            <a:noFill/>
          </a:ln>
        </p:spPr>
      </p:pic>
      <p:sp>
        <p:nvSpPr>
          <p:cNvPr id="343" name="Rettangolo 3"/>
          <p:cNvSpPr/>
          <p:nvPr/>
        </p:nvSpPr>
        <p:spPr>
          <a:xfrm>
            <a:off x="4806720" y="4684680"/>
            <a:ext cx="374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coding positive/negative ints: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2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per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7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aper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0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aper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5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50" dur="2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53" dur="2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Lucida Sans"/>
              </a:rPr>
              <a:t>Copy-lists: </a:t>
            </a: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close nodes sharemany successor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5" name="Text Box 3"/>
          <p:cNvSpPr/>
          <p:nvPr/>
        </p:nvSpPr>
        <p:spPr>
          <a:xfrm>
            <a:off x="9631440" y="8310960"/>
            <a:ext cx="542880" cy="8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6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" spc="-1" strike="noStrike">
                <a:solidFill>
                  <a:srgbClr val="0000ff"/>
                </a:solidFill>
                <a:latin typeface="Arial"/>
                <a:ea typeface="Arial"/>
              </a:rPr>
              <a:t>.</a:t>
            </a:r>
            <a:endParaRPr b="0" lang="en-US" sz="6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346" name="Picture 4" descr=""/>
          <p:cNvPicPr/>
          <p:nvPr/>
        </p:nvPicPr>
        <p:blipFill>
          <a:blip r:embed="rId1"/>
          <a:stretch/>
        </p:blipFill>
        <p:spPr>
          <a:xfrm>
            <a:off x="3564000" y="1700280"/>
            <a:ext cx="4740120" cy="1673280"/>
          </a:xfrm>
          <a:prstGeom prst="rect">
            <a:avLst/>
          </a:prstGeom>
          <a:ln w="0">
            <a:noFill/>
          </a:ln>
        </p:spPr>
      </p:pic>
      <p:sp>
        <p:nvSpPr>
          <p:cNvPr id="347" name="Text Box 5"/>
          <p:cNvSpPr/>
          <p:nvPr/>
        </p:nvSpPr>
        <p:spPr>
          <a:xfrm>
            <a:off x="82440" y="1945080"/>
            <a:ext cx="2819520" cy="6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6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Uncompressed adjacency list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8" name="Rectangle 6"/>
          <p:cNvSpPr/>
          <p:nvPr/>
        </p:nvSpPr>
        <p:spPr>
          <a:xfrm>
            <a:off x="363600" y="5356080"/>
            <a:ext cx="8529480" cy="16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just">
              <a:lnSpc>
                <a:spcPct val="96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  <a:ea typeface="Arial"/>
              </a:rPr>
              <a:t>Each bit of the copy-list informs whether the corresponding successor of </a:t>
            </a:r>
            <a:r>
              <a:rPr b="0" i="1" lang="en-GB" sz="2000" spc="-1" strike="noStrike">
                <a:solidFill>
                  <a:srgbClr val="ff0000"/>
                </a:solidFill>
                <a:latin typeface="Arial"/>
                <a:ea typeface="Arial"/>
              </a:rPr>
              <a:t>y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  <a:ea typeface="Arial"/>
              </a:rPr>
              <a:t> is also a successor of the reference </a:t>
            </a:r>
            <a:r>
              <a:rPr b="0" i="1" lang="en-GB" sz="2000" spc="-1" strike="noStrike">
                <a:solidFill>
                  <a:srgbClr val="ff0000"/>
                </a:solidFill>
                <a:latin typeface="Arial"/>
                <a:ea typeface="Arial"/>
              </a:rPr>
              <a:t>x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  <a:ea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algn="just">
              <a:lnSpc>
                <a:spcPct val="10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e reference index is chosen in [0,W] that gives the best compression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349" name="Picture 7" descr=""/>
          <p:cNvPicPr/>
          <p:nvPr/>
        </p:nvPicPr>
        <p:blipFill>
          <a:blip r:embed="rId2"/>
          <a:stretch/>
        </p:blipFill>
        <p:spPr>
          <a:xfrm>
            <a:off x="2965320" y="3435480"/>
            <a:ext cx="5965920" cy="1773000"/>
          </a:xfrm>
          <a:prstGeom prst="rect">
            <a:avLst/>
          </a:prstGeom>
          <a:ln w="0">
            <a:noFill/>
          </a:ln>
        </p:spPr>
      </p:pic>
      <p:sp>
        <p:nvSpPr>
          <p:cNvPr id="350" name="Text Box 8"/>
          <p:cNvSpPr/>
          <p:nvPr/>
        </p:nvSpPr>
        <p:spPr>
          <a:xfrm>
            <a:off x="119160" y="3837960"/>
            <a:ext cx="2819160" cy="10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6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Adjacency list with copy lists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lnSpc>
                <a:spcPct val="96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a40508"/>
                </a:solidFill>
                <a:latin typeface="Arial"/>
                <a:ea typeface="Arial"/>
              </a:rPr>
              <a:t>(similarity)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51" name="AutoShape 9"/>
          <p:cNvSpPr/>
          <p:nvPr/>
        </p:nvSpPr>
        <p:spPr>
          <a:xfrm>
            <a:off x="5580000" y="189000"/>
            <a:ext cx="3313080" cy="100800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Reference chain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possibly limited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8" dur="2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Lucida Sans"/>
              </a:rPr>
              <a:t>Copy-blocks = RLE(Copy-list)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53" name="Text Box 3"/>
          <p:cNvSpPr/>
          <p:nvPr/>
        </p:nvSpPr>
        <p:spPr>
          <a:xfrm>
            <a:off x="9631440" y="8310960"/>
            <a:ext cx="542880" cy="8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6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" spc="-1" strike="noStrike">
                <a:solidFill>
                  <a:srgbClr val="0000ff"/>
                </a:solidFill>
                <a:latin typeface="Arial"/>
                <a:ea typeface="Arial"/>
              </a:rPr>
              <a:t>.</a:t>
            </a:r>
            <a:endParaRPr b="0" lang="en-US" sz="6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354" name="Picture 4" descr=""/>
          <p:cNvPicPr/>
          <p:nvPr/>
        </p:nvPicPr>
        <p:blipFill>
          <a:blip r:embed="rId1"/>
          <a:stretch/>
        </p:blipFill>
        <p:spPr>
          <a:xfrm>
            <a:off x="2965320" y="1557360"/>
            <a:ext cx="5965920" cy="1773360"/>
          </a:xfrm>
          <a:prstGeom prst="rect">
            <a:avLst/>
          </a:prstGeom>
          <a:ln w="0">
            <a:noFill/>
          </a:ln>
        </p:spPr>
      </p:pic>
      <p:sp>
        <p:nvSpPr>
          <p:cNvPr id="355" name="Text Box 5"/>
          <p:cNvSpPr/>
          <p:nvPr/>
        </p:nvSpPr>
        <p:spPr>
          <a:xfrm>
            <a:off x="119160" y="2170440"/>
            <a:ext cx="2819160" cy="6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6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Adjacency list with copy lists.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56" name="Rectangle 6"/>
          <p:cNvSpPr/>
          <p:nvPr/>
        </p:nvSpPr>
        <p:spPr>
          <a:xfrm>
            <a:off x="179280" y="5373720"/>
            <a:ext cx="838224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just">
              <a:lnSpc>
                <a:spcPct val="96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100" spc="-1" strike="noStrike">
                <a:solidFill>
                  <a:srgbClr val="000000"/>
                </a:solidFill>
                <a:latin typeface="Arial"/>
                <a:ea typeface="Arial"/>
              </a:rPr>
              <a:t>The </a:t>
            </a:r>
            <a:r>
              <a:rPr b="0" lang="en-GB" sz="2100" spc="-1" strike="noStrike">
                <a:solidFill>
                  <a:srgbClr val="0000ff"/>
                </a:solidFill>
                <a:latin typeface="Arial"/>
                <a:ea typeface="Arial"/>
              </a:rPr>
              <a:t>first copy block is 0</a:t>
            </a:r>
            <a:r>
              <a:rPr b="0" lang="en-GB" sz="2100" spc="-1" strike="noStrike">
                <a:solidFill>
                  <a:srgbClr val="000000"/>
                </a:solidFill>
                <a:latin typeface="Arial"/>
                <a:ea typeface="Arial"/>
              </a:rPr>
              <a:t> if the copy list starts with 0;</a:t>
            </a:r>
            <a:endParaRPr b="0" lang="en-US" sz="2100" spc="-1" strike="noStrike">
              <a:solidFill>
                <a:srgbClr val="000000"/>
              </a:solidFill>
              <a:latin typeface="Lucida Sans"/>
            </a:endParaRPr>
          </a:p>
          <a:p>
            <a:pPr algn="just">
              <a:lnSpc>
                <a:spcPct val="96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  <a:ea typeface="Arial"/>
              </a:rPr>
              <a:t>Each RLE-length is decremented by one for all blocks</a:t>
            </a:r>
            <a:endParaRPr b="0" lang="en-US" sz="2100" spc="-1" strike="noStrike">
              <a:solidFill>
                <a:srgbClr val="000000"/>
              </a:solidFill>
              <a:latin typeface="Lucida Sans"/>
            </a:endParaRPr>
          </a:p>
          <a:p>
            <a:pPr algn="just">
              <a:lnSpc>
                <a:spcPct val="96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  <a:ea typeface="Arial"/>
              </a:rPr>
              <a:t>The </a:t>
            </a:r>
            <a:r>
              <a:rPr b="0" lang="en-GB" sz="2100" spc="-1" strike="noStrike">
                <a:solidFill>
                  <a:srgbClr val="993366"/>
                </a:solidFill>
                <a:latin typeface="Arial"/>
                <a:ea typeface="Arial"/>
              </a:rPr>
              <a:t>last block</a:t>
            </a:r>
            <a:r>
              <a:rPr b="0" lang="en-GB" sz="2100" spc="-1" strike="noStrike">
                <a:solidFill>
                  <a:srgbClr val="000000"/>
                </a:solidFill>
                <a:latin typeface="Arial"/>
                <a:ea typeface="Arial"/>
              </a:rPr>
              <a:t> is omitted (we know the length from </a:t>
            </a:r>
            <a:r>
              <a:rPr b="0" i="1" lang="en-GB" sz="2100" spc="-1" strike="noStrike">
                <a:solidFill>
                  <a:srgbClr val="ff0000"/>
                </a:solidFill>
                <a:latin typeface="Arial"/>
                <a:ea typeface="Arial"/>
              </a:rPr>
              <a:t>Outd</a:t>
            </a:r>
            <a:r>
              <a:rPr b="0" lang="en-GB" sz="2100" spc="-1" strike="noStrike">
                <a:solidFill>
                  <a:srgbClr val="000000"/>
                </a:solidFill>
                <a:latin typeface="Arial"/>
                <a:ea typeface="Arial"/>
              </a:rPr>
              <a:t>);</a:t>
            </a:r>
            <a:endParaRPr b="0" lang="en-US" sz="21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357" name="Picture 7" descr=""/>
          <p:cNvPicPr/>
          <p:nvPr/>
        </p:nvPicPr>
        <p:blipFill>
          <a:blip r:embed="rId2"/>
          <a:stretch/>
        </p:blipFill>
        <p:spPr>
          <a:xfrm>
            <a:off x="2771640" y="3487680"/>
            <a:ext cx="6193080" cy="1741680"/>
          </a:xfrm>
          <a:prstGeom prst="rect">
            <a:avLst/>
          </a:prstGeom>
          <a:ln w="0">
            <a:noFill/>
          </a:ln>
        </p:spPr>
      </p:pic>
      <p:sp>
        <p:nvSpPr>
          <p:cNvPr id="358" name="Text Box 8"/>
          <p:cNvSpPr/>
          <p:nvPr/>
        </p:nvSpPr>
        <p:spPr>
          <a:xfrm>
            <a:off x="23760" y="3592800"/>
            <a:ext cx="281952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6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Adjacency list with copy blocks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lnSpc>
                <a:spcPct val="96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a40508"/>
                </a:solidFill>
                <a:latin typeface="Arial"/>
                <a:ea typeface="Arial"/>
              </a:rPr>
              <a:t>(RLE on bit sequences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59" name="Oval 9"/>
          <p:cNvSpPr/>
          <p:nvPr/>
        </p:nvSpPr>
        <p:spPr>
          <a:xfrm>
            <a:off x="5008680" y="4154400"/>
            <a:ext cx="207720" cy="282600"/>
          </a:xfrm>
          <a:prstGeom prst="ellipse">
            <a:avLst/>
          </a:prstGeom>
          <a:noFill/>
          <a:ln w="360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0" name="AutoShape 10"/>
          <p:cNvSpPr/>
          <p:nvPr/>
        </p:nvSpPr>
        <p:spPr>
          <a:xfrm>
            <a:off x="4859280" y="2276640"/>
            <a:ext cx="217440" cy="288720"/>
          </a:xfrm>
          <a:custGeom>
            <a:avLst/>
            <a:gdLst>
              <a:gd name="textAreaLeft" fmla="*/ 360 w 217440"/>
              <a:gd name="textAreaRight" fmla="*/ 217080 w 217440"/>
              <a:gd name="textAreaTop" fmla="*/ 360 h 288720"/>
              <a:gd name="textAreaBottom" fmla="*/ 288360 h 288720"/>
            </a:gdLst>
            <a:ahLst/>
            <a:rect l="textAreaLeft" t="textAreaTop" r="textAreaRight" b="textAreaBottom"/>
            <a:pathLst>
              <a:path w="21600" h="28669">
                <a:moveTo>
                  <a:pt x="177" y="0"/>
                </a:moveTo>
                <a:arcTo wR="177" hR="177" stAng="16200000" swAng="-5400000"/>
                <a:lnTo>
                  <a:pt x="0" y="28492"/>
                </a:lnTo>
                <a:arcTo wR="177" hR="177" stAng="10800000" swAng="-5400000"/>
                <a:lnTo>
                  <a:pt x="21423" y="28669"/>
                </a:lnTo>
                <a:arcTo wR="177" hR="177" stAng="5400000" swAng="-5400000"/>
                <a:lnTo>
                  <a:pt x="21600" y="177"/>
                </a:lnTo>
                <a:arcTo wR="177" hR="177" stAng="0" swAng="-5400000"/>
                <a:close/>
              </a:path>
            </a:pathLst>
          </a:custGeom>
          <a:noFill/>
          <a:ln w="360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1" name="AutoShape 11"/>
          <p:cNvSpPr/>
          <p:nvPr/>
        </p:nvSpPr>
        <p:spPr>
          <a:xfrm>
            <a:off x="5219640" y="2276640"/>
            <a:ext cx="179280" cy="288720"/>
          </a:xfrm>
          <a:custGeom>
            <a:avLst/>
            <a:gdLst>
              <a:gd name="textAreaLeft" fmla="*/ 360 w 179280"/>
              <a:gd name="textAreaRight" fmla="*/ 178920 w 179280"/>
              <a:gd name="textAreaTop" fmla="*/ 360 h 288720"/>
              <a:gd name="textAreaBottom" fmla="*/ 288360 h 288720"/>
            </a:gdLst>
            <a:ahLst/>
            <a:rect l="textAreaLeft" t="textAreaTop" r="textAreaRight" b="textAreaBottom"/>
            <a:pathLst>
              <a:path w="21600" h="34759">
                <a:moveTo>
                  <a:pt x="177" y="0"/>
                </a:moveTo>
                <a:arcTo wR="177" hR="177" stAng="16200000" swAng="-5400000"/>
                <a:lnTo>
                  <a:pt x="0" y="34582"/>
                </a:lnTo>
                <a:arcTo wR="177" hR="177" stAng="10800000" swAng="-5400000"/>
                <a:lnTo>
                  <a:pt x="21423" y="34759"/>
                </a:lnTo>
                <a:arcTo wR="177" hR="177" stAng="5400000" swAng="-5400000"/>
                <a:lnTo>
                  <a:pt x="21600" y="177"/>
                </a:lnTo>
                <a:arcTo wR="177" hR="177" stAng="0" swAng="-5400000"/>
                <a:close/>
              </a:path>
            </a:pathLst>
          </a:custGeom>
          <a:noFill/>
          <a:ln w="360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2" name="AutoShape 12"/>
          <p:cNvSpPr/>
          <p:nvPr/>
        </p:nvSpPr>
        <p:spPr>
          <a:xfrm>
            <a:off x="5653080" y="4149720"/>
            <a:ext cx="142920" cy="287280"/>
          </a:xfrm>
          <a:custGeom>
            <a:avLst/>
            <a:gdLst/>
            <a:ahLst/>
            <a:rect l="l" t="t" r="r" b="b"/>
            <a:pathLst>
              <a:path w="21600" h="43363">
                <a:moveTo>
                  <a:pt x="177" y="0"/>
                </a:moveTo>
                <a:arcTo wR="177" hR="177" stAng="16200000" swAng="-5400000"/>
                <a:lnTo>
                  <a:pt x="0" y="43186"/>
                </a:lnTo>
                <a:arcTo wR="177" hR="177" stAng="10800000" swAng="-5400000"/>
                <a:lnTo>
                  <a:pt x="21423" y="43363"/>
                </a:lnTo>
                <a:arcTo wR="177" hR="177" stAng="5400000" swAng="-5400000"/>
                <a:lnTo>
                  <a:pt x="21600" y="177"/>
                </a:lnTo>
                <a:arcTo wR="177" hR="177" stAng="0" swAng="-5400000"/>
                <a:close/>
              </a:path>
            </a:pathLst>
          </a:custGeom>
          <a:noFill/>
          <a:ln w="360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3" name="AutoShape 13"/>
          <p:cNvSpPr/>
          <p:nvPr/>
        </p:nvSpPr>
        <p:spPr>
          <a:xfrm>
            <a:off x="5329080" y="4149720"/>
            <a:ext cx="179640" cy="287280"/>
          </a:xfrm>
          <a:custGeom>
            <a:avLst/>
            <a:gdLst>
              <a:gd name="textAreaLeft" fmla="*/ 360 w 179640"/>
              <a:gd name="textAreaRight" fmla="*/ 179280 w 179640"/>
              <a:gd name="textAreaTop" fmla="*/ 360 h 287280"/>
              <a:gd name="textAreaBottom" fmla="*/ 286920 h 287280"/>
            </a:gdLst>
            <a:ahLst/>
            <a:rect l="textAreaLeft" t="textAreaTop" r="textAreaRight" b="textAreaBottom"/>
            <a:pathLst>
              <a:path w="21600" h="34517">
                <a:moveTo>
                  <a:pt x="177" y="0"/>
                </a:moveTo>
                <a:arcTo wR="177" hR="177" stAng="16200000" swAng="-5400000"/>
                <a:lnTo>
                  <a:pt x="0" y="34340"/>
                </a:lnTo>
                <a:arcTo wR="177" hR="177" stAng="10800000" swAng="-5400000"/>
                <a:lnTo>
                  <a:pt x="21423" y="34517"/>
                </a:lnTo>
                <a:arcTo wR="177" hR="177" stAng="5400000" swAng="-5400000"/>
                <a:lnTo>
                  <a:pt x="21600" y="177"/>
                </a:lnTo>
                <a:arcTo wR="177" hR="177" stAng="0" swAng="-5400000"/>
                <a:close/>
              </a:path>
            </a:pathLst>
          </a:custGeom>
          <a:noFill/>
          <a:ln w="360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4" name="Rectangle 14"/>
          <p:cNvSpPr/>
          <p:nvPr/>
        </p:nvSpPr>
        <p:spPr>
          <a:xfrm>
            <a:off x="4643280" y="1557360"/>
            <a:ext cx="1081080" cy="1800360"/>
          </a:xfrm>
          <a:prstGeom prst="rect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5" name="Rectangle 15"/>
          <p:cNvSpPr/>
          <p:nvPr/>
        </p:nvSpPr>
        <p:spPr>
          <a:xfrm>
            <a:off x="5003640" y="3500280"/>
            <a:ext cx="1152720" cy="1800360"/>
          </a:xfrm>
          <a:prstGeom prst="rect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6" name="TextBox 16"/>
          <p:cNvSpPr/>
          <p:nvPr/>
        </p:nvSpPr>
        <p:spPr>
          <a:xfrm>
            <a:off x="5055840" y="4560840"/>
            <a:ext cx="3956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Lucida Sans"/>
                <a:ea typeface="Arial"/>
              </a:rPr>
              <a:t>1,3</a:t>
            </a:r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2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7" name="Group 27"/>
          <p:cNvGrpSpPr/>
          <p:nvPr/>
        </p:nvGrpSpPr>
        <p:grpSpPr>
          <a:xfrm>
            <a:off x="1805040" y="3382920"/>
            <a:ext cx="7338960" cy="1558800"/>
            <a:chOff x="1805040" y="3382920"/>
            <a:chExt cx="7338960" cy="1558800"/>
          </a:xfrm>
        </p:grpSpPr>
        <p:pic>
          <p:nvPicPr>
            <p:cNvPr id="368" name="Picture 6" descr=""/>
            <p:cNvPicPr/>
            <p:nvPr/>
          </p:nvPicPr>
          <p:blipFill>
            <a:blip r:embed="rId1"/>
            <a:stretch/>
          </p:blipFill>
          <p:spPr>
            <a:xfrm>
              <a:off x="1805040" y="3382920"/>
              <a:ext cx="7338960" cy="155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9" name="Rectangle 26"/>
            <p:cNvSpPr/>
            <p:nvPr/>
          </p:nvSpPr>
          <p:spPr>
            <a:xfrm>
              <a:off x="8028000" y="3789360"/>
              <a:ext cx="108000" cy="287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50560" y="380880"/>
            <a:ext cx="856908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Lucida Sans"/>
              </a:rPr>
              <a:t>Extra-nodes:</a:t>
            </a:r>
            <a:r>
              <a:rPr b="0" lang="it-IT" sz="44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Lucida Sans"/>
              </a:rPr>
              <a:t>Intervals and Residuals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1" name="Text Box 3"/>
          <p:cNvSpPr/>
          <p:nvPr/>
        </p:nvSpPr>
        <p:spPr>
          <a:xfrm>
            <a:off x="9631440" y="8310960"/>
            <a:ext cx="542880" cy="8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6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" spc="-1" strike="noStrike">
                <a:solidFill>
                  <a:srgbClr val="0000ff"/>
                </a:solidFill>
                <a:latin typeface="Arial"/>
                <a:ea typeface="Arial"/>
              </a:rPr>
              <a:t>.</a:t>
            </a:r>
            <a:endParaRPr b="0" lang="en-US" sz="6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372" name="Picture 4" descr=""/>
          <p:cNvPicPr/>
          <p:nvPr/>
        </p:nvPicPr>
        <p:blipFill>
          <a:blip r:embed="rId2"/>
          <a:stretch/>
        </p:blipFill>
        <p:spPr>
          <a:xfrm>
            <a:off x="2771640" y="1557360"/>
            <a:ext cx="6193080" cy="1741320"/>
          </a:xfrm>
          <a:prstGeom prst="rect">
            <a:avLst/>
          </a:prstGeom>
          <a:ln w="0">
            <a:noFill/>
          </a:ln>
        </p:spPr>
      </p:pic>
      <p:sp>
        <p:nvSpPr>
          <p:cNvPr id="373" name="Text Box 5"/>
          <p:cNvSpPr/>
          <p:nvPr/>
        </p:nvSpPr>
        <p:spPr>
          <a:xfrm>
            <a:off x="-58680" y="1859400"/>
            <a:ext cx="2819520" cy="6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6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Adjacency list with copy blocks.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4" name="Text Box 7"/>
          <p:cNvSpPr/>
          <p:nvPr/>
        </p:nvSpPr>
        <p:spPr>
          <a:xfrm>
            <a:off x="0" y="3650400"/>
            <a:ext cx="1793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6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a40508"/>
                </a:solidFill>
                <a:latin typeface="Arial"/>
                <a:ea typeface="Arial"/>
              </a:rPr>
              <a:t>Consecutivity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lnSpc>
                <a:spcPct val="96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in extra-node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5" name="Oval 8"/>
          <p:cNvSpPr/>
          <p:nvPr/>
        </p:nvSpPr>
        <p:spPr>
          <a:xfrm>
            <a:off x="6291360" y="3990960"/>
            <a:ext cx="344520" cy="282600"/>
          </a:xfrm>
          <a:prstGeom prst="ellipse">
            <a:avLst/>
          </a:prstGeom>
          <a:noFill/>
          <a:ln w="3600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6" name="Text Box 9"/>
          <p:cNvSpPr/>
          <p:nvPr/>
        </p:nvSpPr>
        <p:spPr>
          <a:xfrm>
            <a:off x="5508720" y="5070240"/>
            <a:ext cx="3671640" cy="16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76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8000"/>
                </a:solidFill>
                <a:latin typeface="Arial"/>
                <a:ea typeface="Arial"/>
              </a:rPr>
              <a:t>0 = (15-15)*2   </a:t>
            </a:r>
            <a:r>
              <a:rPr b="0" i="1" lang="en-GB" sz="1600" spc="-1" strike="noStrike">
                <a:solidFill>
                  <a:srgbClr val="008000"/>
                </a:solidFill>
                <a:latin typeface="Arial"/>
                <a:ea typeface="Arial"/>
              </a:rPr>
              <a:t>(positive)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lnSpc>
                <a:spcPct val="76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333399"/>
                </a:solidFill>
                <a:latin typeface="Arial"/>
                <a:ea typeface="Arial"/>
              </a:rPr>
              <a:t>2 = (23-19)-2   </a:t>
            </a:r>
            <a:r>
              <a:rPr b="0" i="1" lang="en-GB" sz="1600" spc="-1" strike="noStrike">
                <a:solidFill>
                  <a:srgbClr val="333399"/>
                </a:solidFill>
                <a:latin typeface="Arial"/>
                <a:ea typeface="Arial"/>
              </a:rPr>
              <a:t>(jump &gt;= 2)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lnSpc>
                <a:spcPct val="76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777777"/>
                </a:solidFill>
                <a:latin typeface="Arial"/>
                <a:ea typeface="Arial"/>
              </a:rPr>
              <a:t>600 = (316-16)*2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lnSpc>
                <a:spcPct val="76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00ff"/>
                </a:solidFill>
                <a:latin typeface="Arial"/>
                <a:ea typeface="Arial"/>
              </a:rPr>
              <a:t>12 = (22-16)*2  </a:t>
            </a:r>
            <a:r>
              <a:rPr b="0" i="1" lang="en-GB" sz="1800" spc="-1" strike="noStrike">
                <a:solidFill>
                  <a:srgbClr val="ff00ff"/>
                </a:solidFill>
                <a:latin typeface="Arial"/>
                <a:ea typeface="Arial"/>
              </a:rPr>
              <a:t>(positive)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lnSpc>
                <a:spcPct val="76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0000"/>
                </a:solidFill>
                <a:latin typeface="Arial"/>
                <a:ea typeface="Arial"/>
              </a:rPr>
              <a:t>3018 = 3041-22-1 </a:t>
            </a:r>
            <a:r>
              <a:rPr b="0" i="1" lang="en-GB" sz="1800" spc="-1" strike="noStrike">
                <a:solidFill>
                  <a:srgbClr val="ff0000"/>
                </a:solidFill>
                <a:latin typeface="Arial"/>
                <a:ea typeface="Arial"/>
              </a:rPr>
              <a:t>(difference)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377" name="Group 10"/>
          <p:cNvGrpSpPr/>
          <p:nvPr/>
        </p:nvGrpSpPr>
        <p:grpSpPr>
          <a:xfrm>
            <a:off x="6253200" y="3792600"/>
            <a:ext cx="255600" cy="280800"/>
            <a:chOff x="6253200" y="3792600"/>
            <a:chExt cx="255600" cy="280800"/>
          </a:xfrm>
        </p:grpSpPr>
        <p:sp>
          <p:nvSpPr>
            <p:cNvPr id="378" name="Oval 11"/>
            <p:cNvSpPr/>
            <p:nvPr/>
          </p:nvSpPr>
          <p:spPr>
            <a:xfrm>
              <a:off x="6253200" y="3792600"/>
              <a:ext cx="255600" cy="280800"/>
            </a:xfrm>
            <a:prstGeom prst="ellipse">
              <a:avLst/>
            </a:prstGeom>
            <a:noFill/>
            <a:ln w="36000">
              <a:solidFill>
                <a:srgbClr val="5c85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379" name="Group 14"/>
          <p:cNvGrpSpPr/>
          <p:nvPr/>
        </p:nvGrpSpPr>
        <p:grpSpPr>
          <a:xfrm>
            <a:off x="8245440" y="4008600"/>
            <a:ext cx="430200" cy="280800"/>
            <a:chOff x="8245440" y="4008600"/>
            <a:chExt cx="430200" cy="280800"/>
          </a:xfrm>
        </p:grpSpPr>
        <p:sp>
          <p:nvSpPr>
            <p:cNvPr id="380" name="Oval 15"/>
            <p:cNvSpPr/>
            <p:nvPr/>
          </p:nvSpPr>
          <p:spPr>
            <a:xfrm>
              <a:off x="8245440" y="4008600"/>
              <a:ext cx="430200" cy="280800"/>
            </a:xfrm>
            <a:prstGeom prst="ellipse">
              <a:avLst/>
            </a:prstGeom>
            <a:noFill/>
            <a:ln w="360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381" name="Rectangle 16"/>
          <p:cNvSpPr/>
          <p:nvPr/>
        </p:nvSpPr>
        <p:spPr>
          <a:xfrm>
            <a:off x="0" y="5084640"/>
            <a:ext cx="8631360" cy="177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marL="351000" indent="-336600" algn="just">
              <a:lnSpc>
                <a:spcPct val="96000"/>
              </a:lnSpc>
              <a:spcBef>
                <a:spcPts val="788"/>
              </a:spcBef>
              <a:tabLst>
                <a:tab algn="l" pos="0"/>
                <a:tab algn="l" pos="351000"/>
                <a:tab algn="l" pos="1265400"/>
                <a:tab algn="l" pos="2179800"/>
                <a:tab algn="l" pos="3094200"/>
                <a:tab algn="l" pos="4008600"/>
                <a:tab algn="l" pos="4923000"/>
                <a:tab algn="l" pos="5837400"/>
                <a:tab algn="l" pos="6751800"/>
                <a:tab algn="l" pos="7666200"/>
                <a:tab algn="l" pos="8580600"/>
                <a:tab algn="l" pos="9495000"/>
                <a:tab algn="l" pos="10409400"/>
                <a:tab algn="l" pos="10782360"/>
              </a:tabLst>
            </a:pPr>
            <a:r>
              <a:rPr b="0" lang="en-GB" sz="2100" spc="-1" strike="noStrike">
                <a:solidFill>
                  <a:srgbClr val="0000ff"/>
                </a:solidFill>
                <a:latin typeface="Arial"/>
                <a:ea typeface="Arial"/>
              </a:rPr>
              <a:t>  </a:t>
            </a:r>
            <a:r>
              <a:rPr b="0" lang="en-GB" sz="2100" spc="-1" strike="noStrike">
                <a:solidFill>
                  <a:srgbClr val="0000ff"/>
                </a:solidFill>
                <a:latin typeface="Arial"/>
                <a:ea typeface="Arial"/>
              </a:rPr>
              <a:t>Intervals</a:t>
            </a:r>
            <a:r>
              <a:rPr b="0" lang="en-GB" sz="2100" spc="-1" strike="noStrike">
                <a:solidFill>
                  <a:srgbClr val="000000"/>
                </a:solidFill>
                <a:latin typeface="Arial"/>
                <a:ea typeface="Arial"/>
              </a:rPr>
              <a:t>: encoded by left extreme and length</a:t>
            </a:r>
            <a:endParaRPr b="0" lang="en-US" sz="2100" spc="-1" strike="noStrike">
              <a:solidFill>
                <a:srgbClr val="000000"/>
              </a:solidFill>
              <a:latin typeface="Lucida Sans"/>
            </a:endParaRPr>
          </a:p>
          <a:p>
            <a:pPr marL="351000" indent="-336600" algn="just">
              <a:lnSpc>
                <a:spcPct val="100000"/>
              </a:lnSpc>
              <a:spcBef>
                <a:spcPts val="788"/>
              </a:spcBef>
              <a:tabLst>
                <a:tab algn="l" pos="0"/>
                <a:tab algn="l" pos="351000"/>
                <a:tab algn="l" pos="1265400"/>
                <a:tab algn="l" pos="2179800"/>
                <a:tab algn="l" pos="3094200"/>
                <a:tab algn="l" pos="4008600"/>
                <a:tab algn="l" pos="4923000"/>
                <a:tab algn="l" pos="5837400"/>
                <a:tab algn="l" pos="6751800"/>
                <a:tab algn="l" pos="7666200"/>
                <a:tab algn="l" pos="8580600"/>
                <a:tab algn="l" pos="9495000"/>
                <a:tab algn="l" pos="10409400"/>
                <a:tab algn="l" pos="1078236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2100" spc="-1" strike="noStrike">
                <a:solidFill>
                  <a:srgbClr val="0000ff"/>
                </a:solidFill>
                <a:latin typeface="Arial"/>
                <a:ea typeface="Arial"/>
              </a:rPr>
              <a:t>Int. length:</a:t>
            </a:r>
            <a:r>
              <a:rPr b="0" lang="en-GB" sz="2100" spc="-1" strike="noStrike">
                <a:solidFill>
                  <a:srgbClr val="000000"/>
                </a:solidFill>
                <a:latin typeface="Arial"/>
                <a:ea typeface="Arial"/>
              </a:rPr>
              <a:t> decremented by L</a:t>
            </a:r>
            <a:r>
              <a:rPr b="0" lang="en-GB" sz="2100" spc="-1" strike="noStrike" baseline="-33000">
                <a:solidFill>
                  <a:srgbClr val="000000"/>
                </a:solidFill>
                <a:latin typeface="Arial"/>
                <a:ea typeface="Arial"/>
              </a:rPr>
              <a:t>min </a:t>
            </a:r>
            <a:r>
              <a:rPr b="0" lang="en-GB" sz="2100" spc="-1" strike="noStrike">
                <a:solidFill>
                  <a:srgbClr val="000000"/>
                </a:solidFill>
                <a:latin typeface="Arial"/>
                <a:ea typeface="Arial"/>
              </a:rPr>
              <a:t>= 2</a:t>
            </a:r>
            <a:endParaRPr b="0" lang="en-US" sz="2100" spc="-1" strike="noStrike">
              <a:solidFill>
                <a:srgbClr val="000000"/>
              </a:solidFill>
              <a:latin typeface="Lucida Sans"/>
            </a:endParaRPr>
          </a:p>
          <a:p>
            <a:pPr marL="351000" indent="-336600" algn="just">
              <a:lnSpc>
                <a:spcPct val="100000"/>
              </a:lnSpc>
              <a:spcBef>
                <a:spcPts val="788"/>
              </a:spcBef>
              <a:tabLst>
                <a:tab algn="l" pos="0"/>
                <a:tab algn="l" pos="351000"/>
                <a:tab algn="l" pos="1265400"/>
                <a:tab algn="l" pos="2179800"/>
                <a:tab algn="l" pos="3094200"/>
                <a:tab algn="l" pos="4008600"/>
                <a:tab algn="l" pos="4923000"/>
                <a:tab algn="l" pos="5837400"/>
                <a:tab algn="l" pos="6751800"/>
                <a:tab algn="l" pos="7666200"/>
                <a:tab algn="l" pos="8580600"/>
                <a:tab algn="l" pos="9495000"/>
                <a:tab algn="l" pos="10409400"/>
                <a:tab algn="l" pos="1078236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2100" spc="-1" strike="noStrike">
                <a:solidFill>
                  <a:srgbClr val="0000ff"/>
                </a:solidFill>
                <a:latin typeface="Arial"/>
                <a:ea typeface="Arial"/>
              </a:rPr>
              <a:t>Residuals</a:t>
            </a:r>
            <a:r>
              <a:rPr b="0" lang="en-GB" sz="2100" spc="-1" strike="noStrike">
                <a:solidFill>
                  <a:srgbClr val="000000"/>
                </a:solidFill>
                <a:latin typeface="Arial"/>
                <a:ea typeface="Arial"/>
              </a:rPr>
              <a:t>: differences between residuals,</a:t>
            </a:r>
            <a:endParaRPr b="0" lang="en-US" sz="2100" spc="-1" strike="noStrike">
              <a:solidFill>
                <a:srgbClr val="000000"/>
              </a:solidFill>
              <a:latin typeface="Lucida Sans"/>
            </a:endParaRPr>
          </a:p>
          <a:p>
            <a:pPr marL="351000" indent="-336600" algn="just">
              <a:lnSpc>
                <a:spcPct val="60000"/>
              </a:lnSpc>
              <a:spcBef>
                <a:spcPts val="788"/>
              </a:spcBef>
              <a:tabLst>
                <a:tab algn="l" pos="0"/>
                <a:tab algn="l" pos="351000"/>
                <a:tab algn="l" pos="1265400"/>
                <a:tab algn="l" pos="2179800"/>
                <a:tab algn="l" pos="3094200"/>
                <a:tab algn="l" pos="4008600"/>
                <a:tab algn="l" pos="4923000"/>
                <a:tab algn="l" pos="5837400"/>
                <a:tab algn="l" pos="6751800"/>
                <a:tab algn="l" pos="7666200"/>
                <a:tab algn="l" pos="8580600"/>
                <a:tab algn="l" pos="9495000"/>
                <a:tab algn="l" pos="10409400"/>
                <a:tab algn="l" pos="1078236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1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1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GB" sz="2100" spc="-1" strike="noStrike">
                <a:solidFill>
                  <a:srgbClr val="000000"/>
                </a:solidFill>
                <a:latin typeface="Arial"/>
                <a:ea typeface="Arial"/>
              </a:rPr>
              <a:t>or the source (the first)</a:t>
            </a:r>
            <a:endParaRPr b="0" lang="en-US" sz="2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2" name="Rectangle 17"/>
          <p:cNvSpPr/>
          <p:nvPr/>
        </p:nvSpPr>
        <p:spPr>
          <a:xfrm>
            <a:off x="6156360" y="1557360"/>
            <a:ext cx="2808360" cy="1727280"/>
          </a:xfrm>
          <a:prstGeom prst="rect">
            <a:avLst/>
          </a:prstGeom>
          <a:noFill/>
          <a:ln w="73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3" name="Rectangle 18"/>
          <p:cNvSpPr/>
          <p:nvPr/>
        </p:nvSpPr>
        <p:spPr>
          <a:xfrm>
            <a:off x="5364000" y="3392640"/>
            <a:ext cx="3780000" cy="1512720"/>
          </a:xfrm>
          <a:prstGeom prst="rect">
            <a:avLst/>
          </a:prstGeom>
          <a:noFill/>
          <a:ln w="73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4" name="AutoShape 19"/>
          <p:cNvSpPr/>
          <p:nvPr/>
        </p:nvSpPr>
        <p:spPr>
          <a:xfrm>
            <a:off x="5867280" y="0"/>
            <a:ext cx="3276720" cy="69228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omic Sans MS"/>
                <a:ea typeface="Arial"/>
              </a:rPr>
              <a:t>This is a Java and C++ lib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Lucida Sans"/>
                <a:ea typeface="Arial"/>
              </a:rPr>
              <a:t>(≈3 bits/edge)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385" name="Group 20"/>
          <p:cNvGrpSpPr/>
          <p:nvPr/>
        </p:nvGrpSpPr>
        <p:grpSpPr>
          <a:xfrm>
            <a:off x="6469200" y="3789360"/>
            <a:ext cx="255600" cy="281160"/>
            <a:chOff x="6469200" y="3789360"/>
            <a:chExt cx="255600" cy="281160"/>
          </a:xfrm>
        </p:grpSpPr>
        <p:sp>
          <p:nvSpPr>
            <p:cNvPr id="386" name="Oval 21"/>
            <p:cNvSpPr/>
            <p:nvPr/>
          </p:nvSpPr>
          <p:spPr>
            <a:xfrm>
              <a:off x="6469200" y="3789360"/>
              <a:ext cx="255600" cy="281160"/>
            </a:xfrm>
            <a:prstGeom prst="ellipse">
              <a:avLst/>
            </a:prstGeom>
            <a:noFill/>
            <a:ln w="360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387" name="Group 22"/>
          <p:cNvGrpSpPr/>
          <p:nvPr/>
        </p:nvGrpSpPr>
        <p:grpSpPr>
          <a:xfrm>
            <a:off x="6404040" y="1995480"/>
            <a:ext cx="255600" cy="281160"/>
            <a:chOff x="6404040" y="1995480"/>
            <a:chExt cx="255600" cy="281160"/>
          </a:xfrm>
        </p:grpSpPr>
        <p:sp>
          <p:nvSpPr>
            <p:cNvPr id="388" name="Oval 23"/>
            <p:cNvSpPr/>
            <p:nvPr/>
          </p:nvSpPr>
          <p:spPr>
            <a:xfrm>
              <a:off x="6404040" y="1995480"/>
              <a:ext cx="255600" cy="281160"/>
            </a:xfrm>
            <a:prstGeom prst="ellipse">
              <a:avLst/>
            </a:prstGeom>
            <a:noFill/>
            <a:ln w="36000">
              <a:solidFill>
                <a:srgbClr val="5c85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389" name="Group 24"/>
          <p:cNvGrpSpPr/>
          <p:nvPr/>
        </p:nvGrpSpPr>
        <p:grpSpPr>
          <a:xfrm>
            <a:off x="7524720" y="1995480"/>
            <a:ext cx="255600" cy="281160"/>
            <a:chOff x="7524720" y="1995480"/>
            <a:chExt cx="255600" cy="281160"/>
          </a:xfrm>
        </p:grpSpPr>
        <p:sp>
          <p:nvSpPr>
            <p:cNvPr id="390" name="Oval 25"/>
            <p:cNvSpPr/>
            <p:nvPr/>
          </p:nvSpPr>
          <p:spPr>
            <a:xfrm>
              <a:off x="7524720" y="1995480"/>
              <a:ext cx="255600" cy="281160"/>
            </a:xfrm>
            <a:prstGeom prst="ellipse">
              <a:avLst/>
            </a:prstGeom>
            <a:noFill/>
            <a:ln w="360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391" name="Group 12"/>
          <p:cNvGrpSpPr/>
          <p:nvPr/>
        </p:nvGrpSpPr>
        <p:grpSpPr>
          <a:xfrm>
            <a:off x="8005680" y="4011480"/>
            <a:ext cx="166680" cy="281160"/>
            <a:chOff x="8005680" y="4011480"/>
            <a:chExt cx="166680" cy="281160"/>
          </a:xfrm>
        </p:grpSpPr>
        <p:sp>
          <p:nvSpPr>
            <p:cNvPr id="392" name="Oval 13"/>
            <p:cNvSpPr/>
            <p:nvPr/>
          </p:nvSpPr>
          <p:spPr>
            <a:xfrm>
              <a:off x="8005680" y="4011480"/>
              <a:ext cx="166680" cy="281160"/>
            </a:xfrm>
            <a:prstGeom prst="ellipse">
              <a:avLst/>
            </a:prstGeom>
            <a:noFill/>
            <a:ln w="360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393" name="Oval 8"/>
          <p:cNvSpPr/>
          <p:nvPr/>
        </p:nvSpPr>
        <p:spPr>
          <a:xfrm>
            <a:off x="6372360" y="2209680"/>
            <a:ext cx="344520" cy="282600"/>
          </a:xfrm>
          <a:prstGeom prst="ellipse">
            <a:avLst/>
          </a:prstGeom>
          <a:noFill/>
          <a:ln w="3600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9" dur="2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4" dur="500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3" dur="500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0" dur="500"/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3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6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7" dur="500"/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8" dur="2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685800" y="1752120"/>
            <a:ext cx="7772400" cy="487692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4"/>
          <p:cNvSpPr/>
          <p:nvPr/>
        </p:nvSpPr>
        <p:spPr>
          <a:xfrm>
            <a:off x="0" y="765000"/>
            <a:ext cx="8893080" cy="1727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11" name="Picture 2" descr=""/>
          <p:cNvPicPr/>
          <p:nvPr/>
        </p:nvPicPr>
        <p:blipFill>
          <a:blip r:embed="rId2"/>
          <a:srcRect l="28351" t="13408" r="29350" b="11717"/>
          <a:stretch/>
        </p:blipFill>
        <p:spPr>
          <a:xfrm>
            <a:off x="1547640" y="0"/>
            <a:ext cx="6199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4788000" cy="35910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3" descr=""/>
          <p:cNvPicPr/>
          <p:nvPr/>
        </p:nvPicPr>
        <p:blipFill>
          <a:blip r:embed="rId2"/>
          <a:stretch/>
        </p:blipFill>
        <p:spPr>
          <a:xfrm>
            <a:off x="4572000" y="3699000"/>
            <a:ext cx="4572000" cy="3159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" descr="C:\Users\ferragin\Desktop\My Dropbox\Anonimo.png"/>
          <p:cNvPicPr/>
          <p:nvPr/>
        </p:nvPicPr>
        <p:blipFill>
          <a:blip r:embed="rId3"/>
          <a:stretch/>
        </p:blipFill>
        <p:spPr>
          <a:xfrm>
            <a:off x="4500720" y="0"/>
            <a:ext cx="4643280" cy="36450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3" descr="C:\Users\ferragin\Desktop\My Dropbox\Anonimo2.png"/>
          <p:cNvPicPr/>
          <p:nvPr/>
        </p:nvPicPr>
        <p:blipFill>
          <a:blip r:embed="rId4"/>
          <a:stretch/>
        </p:blipFill>
        <p:spPr>
          <a:xfrm>
            <a:off x="0" y="3573360"/>
            <a:ext cx="4572000" cy="3284640"/>
          </a:xfrm>
          <a:prstGeom prst="rect">
            <a:avLst/>
          </a:prstGeom>
          <a:ln w="0">
            <a:noFill/>
          </a:ln>
        </p:spPr>
      </p:pic>
      <p:grpSp>
        <p:nvGrpSpPr>
          <p:cNvPr id="116" name="Group 7"/>
          <p:cNvGrpSpPr/>
          <p:nvPr/>
        </p:nvGrpSpPr>
        <p:grpSpPr>
          <a:xfrm>
            <a:off x="14400" y="3686040"/>
            <a:ext cx="4376520" cy="3164040"/>
            <a:chOff x="14400" y="3686040"/>
            <a:chExt cx="4376520" cy="3164040"/>
          </a:xfrm>
        </p:grpSpPr>
        <p:sp>
          <p:nvSpPr>
            <p:cNvPr id="117" name="Freeform 5"/>
            <p:cNvSpPr/>
            <p:nvPr/>
          </p:nvSpPr>
          <p:spPr>
            <a:xfrm>
              <a:off x="14400" y="3686040"/>
              <a:ext cx="4376520" cy="3156120"/>
            </a:xfrm>
            <a:custGeom>
              <a:avLst/>
              <a:gdLst>
                <a:gd name="textAreaLeft" fmla="*/ 0 w 4376520"/>
                <a:gd name="textAreaRight" fmla="*/ 4376880 w 4376520"/>
                <a:gd name="textAreaTop" fmla="*/ 0 h 3156120"/>
                <a:gd name="textAreaBottom" fmla="*/ 3156480 h 3156120"/>
              </a:gdLst>
              <a:ahLst/>
              <a:rect l="textAreaLeft" t="textAreaTop" r="textAreaRight" b="textAreaBottom"/>
              <a:pathLst>
                <a:path w="4376673" h="3156080">
                  <a:moveTo>
                    <a:pt x="0" y="0"/>
                  </a:moveTo>
                  <a:cubicBezTo>
                    <a:pt x="348343" y="62895"/>
                    <a:pt x="705164" y="89737"/>
                    <a:pt x="1045029" y="188685"/>
                  </a:cubicBezTo>
                  <a:cubicBezTo>
                    <a:pt x="1101731" y="205193"/>
                    <a:pt x="1096317" y="302902"/>
                    <a:pt x="1146629" y="333828"/>
                  </a:cubicBezTo>
                  <a:cubicBezTo>
                    <a:pt x="1628234" y="629860"/>
                    <a:pt x="2133600" y="885371"/>
                    <a:pt x="2627086" y="1161142"/>
                  </a:cubicBezTo>
                  <a:cubicBezTo>
                    <a:pt x="2598057" y="1204685"/>
                    <a:pt x="2576326" y="1254100"/>
                    <a:pt x="2540000" y="1291771"/>
                  </a:cubicBezTo>
                  <a:cubicBezTo>
                    <a:pt x="1405495" y="2468295"/>
                    <a:pt x="2120804" y="1656809"/>
                    <a:pt x="1741715" y="2090057"/>
                  </a:cubicBezTo>
                  <a:cubicBezTo>
                    <a:pt x="1862892" y="2393004"/>
                    <a:pt x="1779009" y="2238431"/>
                    <a:pt x="2510972" y="2380342"/>
                  </a:cubicBezTo>
                  <a:cubicBezTo>
                    <a:pt x="2822428" y="2440726"/>
                    <a:pt x="3443086" y="2444648"/>
                    <a:pt x="3773715" y="2452914"/>
                  </a:cubicBezTo>
                  <a:cubicBezTo>
                    <a:pt x="3807582" y="2472266"/>
                    <a:pt x="3843913" y="2487833"/>
                    <a:pt x="3875315" y="2510971"/>
                  </a:cubicBezTo>
                  <a:cubicBezTo>
                    <a:pt x="3990561" y="2595889"/>
                    <a:pt x="4065659" y="2654039"/>
                    <a:pt x="4136572" y="2772228"/>
                  </a:cubicBezTo>
                  <a:cubicBezTo>
                    <a:pt x="4151086" y="2796419"/>
                    <a:pt x="4161892" y="2823264"/>
                    <a:pt x="4180115" y="2844800"/>
                  </a:cubicBezTo>
                  <a:cubicBezTo>
                    <a:pt x="4215472" y="2886585"/>
                    <a:pt x="4296229" y="2960914"/>
                    <a:pt x="4296229" y="2960914"/>
                  </a:cubicBezTo>
                  <a:cubicBezTo>
                    <a:pt x="4305905" y="2980266"/>
                    <a:pt x="4317660" y="2998712"/>
                    <a:pt x="4325257" y="3018971"/>
                  </a:cubicBezTo>
                  <a:cubicBezTo>
                    <a:pt x="4376673" y="3156080"/>
                    <a:pt x="4312262" y="3022005"/>
                    <a:pt x="4354286" y="3106057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18" name="Freeform 6"/>
            <p:cNvSpPr/>
            <p:nvPr/>
          </p:nvSpPr>
          <p:spPr>
            <a:xfrm>
              <a:off x="28800" y="3823920"/>
              <a:ext cx="4151160" cy="3026160"/>
            </a:xfrm>
            <a:custGeom>
              <a:avLst/>
              <a:gdLst>
                <a:gd name="textAreaLeft" fmla="*/ 0 w 4151160"/>
                <a:gd name="textAreaRight" fmla="*/ 4151520 w 4151160"/>
                <a:gd name="textAreaTop" fmla="*/ 0 h 3026160"/>
                <a:gd name="textAreaBottom" fmla="*/ 3026520 h 3026160"/>
              </a:gdLst>
              <a:ahLst/>
              <a:rect l="textAreaLeft" t="textAreaTop" r="textAreaRight" b="textAreaBottom"/>
              <a:pathLst>
                <a:path w="4151085" h="3025953">
                  <a:moveTo>
                    <a:pt x="4151085" y="6981"/>
                  </a:moveTo>
                  <a:cubicBezTo>
                    <a:pt x="3688925" y="48998"/>
                    <a:pt x="3894476" y="0"/>
                    <a:pt x="3236685" y="645610"/>
                  </a:cubicBezTo>
                  <a:cubicBezTo>
                    <a:pt x="3201472" y="680170"/>
                    <a:pt x="3217333" y="742372"/>
                    <a:pt x="3207657" y="790753"/>
                  </a:cubicBezTo>
                  <a:cubicBezTo>
                    <a:pt x="3200657" y="867752"/>
                    <a:pt x="3208174" y="953743"/>
                    <a:pt x="3164114" y="1022981"/>
                  </a:cubicBezTo>
                  <a:cubicBezTo>
                    <a:pt x="3075444" y="1162320"/>
                    <a:pt x="3117225" y="1065608"/>
                    <a:pt x="3004457" y="1168124"/>
                  </a:cubicBezTo>
                  <a:cubicBezTo>
                    <a:pt x="2785625" y="1367063"/>
                    <a:pt x="3148146" y="1129058"/>
                    <a:pt x="2757714" y="1356810"/>
                  </a:cubicBezTo>
                  <a:cubicBezTo>
                    <a:pt x="2588381" y="1347134"/>
                    <a:pt x="2418358" y="1345850"/>
                    <a:pt x="2249714" y="1327781"/>
                  </a:cubicBezTo>
                  <a:cubicBezTo>
                    <a:pt x="2146876" y="1316763"/>
                    <a:pt x="2048323" y="1271639"/>
                    <a:pt x="1944914" y="1269724"/>
                  </a:cubicBezTo>
                  <a:cubicBezTo>
                    <a:pt x="1784626" y="1266756"/>
                    <a:pt x="1625599" y="1298753"/>
                    <a:pt x="1465942" y="1313267"/>
                  </a:cubicBezTo>
                  <a:lnTo>
                    <a:pt x="928914" y="1893839"/>
                  </a:lnTo>
                  <a:cubicBezTo>
                    <a:pt x="880083" y="1947109"/>
                    <a:pt x="778560" y="2062180"/>
                    <a:pt x="740228" y="2126067"/>
                  </a:cubicBezTo>
                  <a:cubicBezTo>
                    <a:pt x="540024" y="2459739"/>
                    <a:pt x="777201" y="2141861"/>
                    <a:pt x="537028" y="2474410"/>
                  </a:cubicBezTo>
                  <a:cubicBezTo>
                    <a:pt x="514904" y="2505043"/>
                    <a:pt x="486619" y="2530891"/>
                    <a:pt x="464457" y="2561496"/>
                  </a:cubicBezTo>
                  <a:cubicBezTo>
                    <a:pt x="384954" y="2671286"/>
                    <a:pt x="365149" y="2868740"/>
                    <a:pt x="232228" y="2895324"/>
                  </a:cubicBezTo>
                  <a:lnTo>
                    <a:pt x="87085" y="2924353"/>
                  </a:lnTo>
                  <a:cubicBezTo>
                    <a:pt x="77409" y="2938867"/>
                    <a:pt x="69224" y="2954495"/>
                    <a:pt x="58057" y="2967896"/>
                  </a:cubicBezTo>
                  <a:cubicBezTo>
                    <a:pt x="44916" y="2983665"/>
                    <a:pt x="29028" y="2996925"/>
                    <a:pt x="14514" y="3011439"/>
                  </a:cubicBezTo>
                  <a:lnTo>
                    <a:pt x="0" y="3025953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119" name="Group 8"/>
          <p:cNvGrpSpPr/>
          <p:nvPr/>
        </p:nvGrpSpPr>
        <p:grpSpPr>
          <a:xfrm>
            <a:off x="4643280" y="3720960"/>
            <a:ext cx="4376880" cy="3164040"/>
            <a:chOff x="4643280" y="3720960"/>
            <a:chExt cx="4376880" cy="3164040"/>
          </a:xfrm>
        </p:grpSpPr>
        <p:sp>
          <p:nvSpPr>
            <p:cNvPr id="120" name="Freeform 9"/>
            <p:cNvSpPr/>
            <p:nvPr/>
          </p:nvSpPr>
          <p:spPr>
            <a:xfrm>
              <a:off x="4643280" y="3720960"/>
              <a:ext cx="4376880" cy="3156120"/>
            </a:xfrm>
            <a:custGeom>
              <a:avLst/>
              <a:gdLst>
                <a:gd name="textAreaLeft" fmla="*/ 0 w 4376880"/>
                <a:gd name="textAreaRight" fmla="*/ 4377240 w 4376880"/>
                <a:gd name="textAreaTop" fmla="*/ 0 h 3156120"/>
                <a:gd name="textAreaBottom" fmla="*/ 3156480 h 3156120"/>
              </a:gdLst>
              <a:ahLst/>
              <a:rect l="textAreaLeft" t="textAreaTop" r="textAreaRight" b="textAreaBottom"/>
              <a:pathLst>
                <a:path w="4376673" h="3156080">
                  <a:moveTo>
                    <a:pt x="0" y="0"/>
                  </a:moveTo>
                  <a:cubicBezTo>
                    <a:pt x="348343" y="62895"/>
                    <a:pt x="705164" y="89737"/>
                    <a:pt x="1045029" y="188685"/>
                  </a:cubicBezTo>
                  <a:cubicBezTo>
                    <a:pt x="1101731" y="205193"/>
                    <a:pt x="1096317" y="302902"/>
                    <a:pt x="1146629" y="333828"/>
                  </a:cubicBezTo>
                  <a:cubicBezTo>
                    <a:pt x="1628234" y="629860"/>
                    <a:pt x="2133600" y="885371"/>
                    <a:pt x="2627086" y="1161142"/>
                  </a:cubicBezTo>
                  <a:cubicBezTo>
                    <a:pt x="2598057" y="1204685"/>
                    <a:pt x="2576326" y="1254100"/>
                    <a:pt x="2540000" y="1291771"/>
                  </a:cubicBezTo>
                  <a:cubicBezTo>
                    <a:pt x="1405495" y="2468295"/>
                    <a:pt x="2120804" y="1656809"/>
                    <a:pt x="1741715" y="2090057"/>
                  </a:cubicBezTo>
                  <a:cubicBezTo>
                    <a:pt x="1862892" y="2393004"/>
                    <a:pt x="1779009" y="2238431"/>
                    <a:pt x="2510972" y="2380342"/>
                  </a:cubicBezTo>
                  <a:cubicBezTo>
                    <a:pt x="2822428" y="2440726"/>
                    <a:pt x="3443086" y="2444648"/>
                    <a:pt x="3773715" y="2452914"/>
                  </a:cubicBezTo>
                  <a:cubicBezTo>
                    <a:pt x="3807582" y="2472266"/>
                    <a:pt x="3843913" y="2487833"/>
                    <a:pt x="3875315" y="2510971"/>
                  </a:cubicBezTo>
                  <a:cubicBezTo>
                    <a:pt x="3990561" y="2595889"/>
                    <a:pt x="4065659" y="2654039"/>
                    <a:pt x="4136572" y="2772228"/>
                  </a:cubicBezTo>
                  <a:cubicBezTo>
                    <a:pt x="4151086" y="2796419"/>
                    <a:pt x="4161892" y="2823264"/>
                    <a:pt x="4180115" y="2844800"/>
                  </a:cubicBezTo>
                  <a:cubicBezTo>
                    <a:pt x="4215472" y="2886585"/>
                    <a:pt x="4296229" y="2960914"/>
                    <a:pt x="4296229" y="2960914"/>
                  </a:cubicBezTo>
                  <a:cubicBezTo>
                    <a:pt x="4305905" y="2980266"/>
                    <a:pt x="4317660" y="2998712"/>
                    <a:pt x="4325257" y="3018971"/>
                  </a:cubicBezTo>
                  <a:cubicBezTo>
                    <a:pt x="4376673" y="3156080"/>
                    <a:pt x="4312262" y="3022005"/>
                    <a:pt x="4354286" y="3106057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21" name="Freeform 10"/>
            <p:cNvSpPr/>
            <p:nvPr/>
          </p:nvSpPr>
          <p:spPr>
            <a:xfrm>
              <a:off x="4657680" y="3858840"/>
              <a:ext cx="4151520" cy="3026160"/>
            </a:xfrm>
            <a:custGeom>
              <a:avLst/>
              <a:gdLst>
                <a:gd name="textAreaLeft" fmla="*/ 0 w 4151520"/>
                <a:gd name="textAreaRight" fmla="*/ 4151880 w 4151520"/>
                <a:gd name="textAreaTop" fmla="*/ 0 h 3026160"/>
                <a:gd name="textAreaBottom" fmla="*/ 3026520 h 3026160"/>
              </a:gdLst>
              <a:ahLst/>
              <a:rect l="textAreaLeft" t="textAreaTop" r="textAreaRight" b="textAreaBottom"/>
              <a:pathLst>
                <a:path w="4151085" h="3025953">
                  <a:moveTo>
                    <a:pt x="4151085" y="6981"/>
                  </a:moveTo>
                  <a:cubicBezTo>
                    <a:pt x="3688925" y="48998"/>
                    <a:pt x="3894476" y="0"/>
                    <a:pt x="3236685" y="645610"/>
                  </a:cubicBezTo>
                  <a:cubicBezTo>
                    <a:pt x="3201472" y="680170"/>
                    <a:pt x="3217333" y="742372"/>
                    <a:pt x="3207657" y="790753"/>
                  </a:cubicBezTo>
                  <a:cubicBezTo>
                    <a:pt x="3200657" y="867752"/>
                    <a:pt x="3208174" y="953743"/>
                    <a:pt x="3164114" y="1022981"/>
                  </a:cubicBezTo>
                  <a:cubicBezTo>
                    <a:pt x="3075444" y="1162320"/>
                    <a:pt x="3117225" y="1065608"/>
                    <a:pt x="3004457" y="1168124"/>
                  </a:cubicBezTo>
                  <a:cubicBezTo>
                    <a:pt x="2785625" y="1367063"/>
                    <a:pt x="3148146" y="1129058"/>
                    <a:pt x="2757714" y="1356810"/>
                  </a:cubicBezTo>
                  <a:cubicBezTo>
                    <a:pt x="2588381" y="1347134"/>
                    <a:pt x="2418358" y="1345850"/>
                    <a:pt x="2249714" y="1327781"/>
                  </a:cubicBezTo>
                  <a:cubicBezTo>
                    <a:pt x="2146876" y="1316763"/>
                    <a:pt x="2048323" y="1271639"/>
                    <a:pt x="1944914" y="1269724"/>
                  </a:cubicBezTo>
                  <a:cubicBezTo>
                    <a:pt x="1784626" y="1266756"/>
                    <a:pt x="1625599" y="1298753"/>
                    <a:pt x="1465942" y="1313267"/>
                  </a:cubicBezTo>
                  <a:lnTo>
                    <a:pt x="928914" y="1893839"/>
                  </a:lnTo>
                  <a:cubicBezTo>
                    <a:pt x="880083" y="1947109"/>
                    <a:pt x="778560" y="2062180"/>
                    <a:pt x="740228" y="2126067"/>
                  </a:cubicBezTo>
                  <a:cubicBezTo>
                    <a:pt x="540024" y="2459739"/>
                    <a:pt x="777201" y="2141861"/>
                    <a:pt x="537028" y="2474410"/>
                  </a:cubicBezTo>
                  <a:cubicBezTo>
                    <a:pt x="514904" y="2505043"/>
                    <a:pt x="486619" y="2530891"/>
                    <a:pt x="464457" y="2561496"/>
                  </a:cubicBezTo>
                  <a:cubicBezTo>
                    <a:pt x="384954" y="2671286"/>
                    <a:pt x="365149" y="2868740"/>
                    <a:pt x="232228" y="2895324"/>
                  </a:cubicBezTo>
                  <a:lnTo>
                    <a:pt x="87085" y="2924353"/>
                  </a:lnTo>
                  <a:cubicBezTo>
                    <a:pt x="77409" y="2938867"/>
                    <a:pt x="69224" y="2954495"/>
                    <a:pt x="58057" y="2967896"/>
                  </a:cubicBezTo>
                  <a:cubicBezTo>
                    <a:pt x="44916" y="2983665"/>
                    <a:pt x="29028" y="2996925"/>
                    <a:pt x="14514" y="3011439"/>
                  </a:cubicBezTo>
                  <a:lnTo>
                    <a:pt x="0" y="3025953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122" name="Rounded Rectangle 11"/>
          <p:cNvSpPr/>
          <p:nvPr/>
        </p:nvSpPr>
        <p:spPr>
          <a:xfrm>
            <a:off x="6227640" y="4797360"/>
            <a:ext cx="1729080" cy="79236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Lucida Sans"/>
                <a:ea typeface="Arial"/>
              </a:rPr>
              <a:t>2009-12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3" name="Rounded Rectangle 12"/>
          <p:cNvSpPr/>
          <p:nvPr/>
        </p:nvSpPr>
        <p:spPr>
          <a:xfrm>
            <a:off x="1619280" y="4653000"/>
            <a:ext cx="1728720" cy="79200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Lucida Sans"/>
                <a:ea typeface="Arial"/>
              </a:rPr>
              <a:t>2009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85800" y="1752120"/>
            <a:ext cx="7772400" cy="48769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2" descr=""/>
          <p:cNvPicPr/>
          <p:nvPr/>
        </p:nvPicPr>
        <p:blipFill>
          <a:blip r:embed="rId2"/>
          <a:srcRect l="10813" t="11627" r="12369" b="531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28" name="Picture 2" descr=""/>
          <p:cNvPicPr/>
          <p:nvPr/>
        </p:nvPicPr>
        <p:blipFill>
          <a:blip r:embed="rId1"/>
          <a:srcRect l="17749" t="17425" r="25297" b="7340"/>
          <a:stretch/>
        </p:blipFill>
        <p:spPr>
          <a:xfrm>
            <a:off x="0" y="0"/>
            <a:ext cx="5500800" cy="67867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3" descr=""/>
          <p:cNvPicPr/>
          <p:nvPr/>
        </p:nvPicPr>
        <p:blipFill>
          <a:blip r:embed="rId2"/>
          <a:srcRect l="17455" t="19907" r="25592" b="7236"/>
          <a:stretch/>
        </p:blipFill>
        <p:spPr>
          <a:xfrm>
            <a:off x="3643200" y="0"/>
            <a:ext cx="5500800" cy="68580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4" descr=""/>
          <p:cNvPicPr/>
          <p:nvPr/>
        </p:nvPicPr>
        <p:blipFill>
          <a:blip r:embed="rId3"/>
          <a:srcRect l="16717" t="19113" r="24854" b="8816"/>
          <a:stretch/>
        </p:blipFill>
        <p:spPr>
          <a:xfrm>
            <a:off x="0" y="0"/>
            <a:ext cx="5952960" cy="68580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"/>
          <p:cNvPicPr/>
          <p:nvPr/>
        </p:nvPicPr>
        <p:blipFill>
          <a:blip r:embed="rId4"/>
          <a:srcRect l="17455" t="19113" r="24854" b="8026"/>
          <a:stretch/>
        </p:blipFill>
        <p:spPr>
          <a:xfrm>
            <a:off x="3328920" y="0"/>
            <a:ext cx="5815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8T16:13:07Z</dcterms:created>
  <dc:creator>Paolo Ferragina</dc:creator>
  <dc:description/>
  <dc:language>en-US</dc:language>
  <cp:lastModifiedBy>Paolo Ferragina</cp:lastModifiedBy>
  <cp:lastPrinted>2009-04-22T19:24:48Z</cp:lastPrinted>
  <dcterms:modified xsi:type="dcterms:W3CDTF">2014-11-27T17:25:28Z</dcterms:modified>
  <cp:revision>1193</cp:revision>
  <dc:subject/>
  <dc:title>Web Algorithmics</dc:title>
</cp:coreProperties>
</file>